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33080" y="1006560"/>
            <a:ext cx="5100840" cy="34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037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move the slid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39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540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540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540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540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540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540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540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53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0000" y="4539240"/>
            <a:ext cx="93553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000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376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2960" y="196380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86280" y="196380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0000" y="453924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2960" y="453924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86280" y="453924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60000" y="1963800"/>
            <a:ext cx="93553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53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6000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376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0000" y="4539240"/>
            <a:ext cx="93553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5520" y="155520"/>
            <a:ext cx="9769680" cy="1328760"/>
          </a:xfrm>
          <a:prstGeom prst="rect">
            <a:avLst/>
          </a:prstGeom>
          <a:solidFill>
            <a:srgbClr val="c0c0c0"/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edit the title text forma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000" y="1963800"/>
            <a:ext cx="93553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Click to edit the outline text format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343080" indent="-343080">
              <a:lnSpc>
                <a:spcPct val="94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Second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343080" indent="-343080">
              <a:lnSpc>
                <a:spcPct val="94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Third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3" marL="343080" indent="-343080">
              <a:lnSpc>
                <a:spcPct val="94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Four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4" marL="343080" indent="-343080">
              <a:lnSpc>
                <a:spcPct val="94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Fif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5" marL="343080" indent="-343080">
              <a:lnSpc>
                <a:spcPct val="94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Six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6" marL="343080" indent="-343080">
              <a:lnSpc>
                <a:spcPct val="94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Seven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" name=""/>
          <p:cNvSpPr/>
          <p:nvPr/>
        </p:nvSpPr>
        <p:spPr>
          <a:xfrm>
            <a:off x="360360" y="1619280"/>
            <a:ext cx="9360000" cy="144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15880" y="1558440"/>
            <a:ext cx="8772480" cy="54882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57200"/>
                <a:tab algn="l" pos="69228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6000"/>
              </a:lnSpc>
              <a:tabLst>
                <a:tab algn="l" pos="0"/>
                <a:tab algn="l" pos="457200"/>
                <a:tab algn="l" pos="69228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69228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 Workshop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7000"/>
              </a:lnSpc>
              <a:tabLst>
                <a:tab algn="l" pos="0"/>
                <a:tab algn="l" pos="457200"/>
                <a:tab algn="l" pos="69228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7000"/>
              </a:lnSpc>
              <a:tabLst>
                <a:tab algn="l" pos="0"/>
                <a:tab algn="l" pos="457200"/>
                <a:tab algn="l" pos="69228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7000"/>
              </a:lnSpc>
              <a:tabLst>
                <a:tab algn="l" pos="0"/>
                <a:tab algn="l" pos="457200"/>
                <a:tab algn="l" pos="69228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Apricot 2010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7000"/>
              </a:lnSpc>
              <a:tabLst>
                <a:tab algn="l" pos="0"/>
                <a:tab algn="l" pos="457200"/>
                <a:tab algn="l" pos="69228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Kuala Lumpur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7000"/>
              </a:lnSpc>
              <a:tabLst>
                <a:tab algn="l" pos="0"/>
                <a:tab algn="l" pos="457200"/>
                <a:tab algn="l" pos="69228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6000"/>
              </a:lnSpc>
              <a:tabLst>
                <a:tab algn="l" pos="0"/>
                <a:tab algn="l" pos="457200"/>
                <a:tab algn="l" pos="69228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6000"/>
              </a:lnSpc>
              <a:tabLst>
                <a:tab algn="l" pos="0"/>
                <a:tab algn="l" pos="457200"/>
                <a:tab algn="l" pos="69228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6000"/>
              </a:lnSpc>
              <a:tabLst>
                <a:tab algn="l" pos="0"/>
                <a:tab algn="l" pos="457200"/>
                <a:tab algn="l" pos="69228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6000"/>
              </a:lnSpc>
              <a:tabLst>
                <a:tab algn="l" pos="0"/>
                <a:tab algn="l" pos="457200"/>
                <a:tab algn="l" pos="69228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Managing network configuration</a:t>
            </a:r>
            <a:br>
              <a:rPr sz="4000"/>
            </a:b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ith RANCID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164040" y="5208480"/>
            <a:ext cx="367488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hat is RANCID ?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Configuration management too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Keeps track of changes in the configs of your network equipment (Cisco, HP, Juniper, Foundry)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routers and switche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hat is RANCID ?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Automates retrieval of the configurations and rchives them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Functions as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Backup tool - ”woops, my router burned”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Audit tool - ”how did this error get in ?”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Blame allocation :) - ”who did it ?”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The data is stored in a VCS (Version Control System) – supported are CVS and SVN (SubVersion)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How does it work ? 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Run (manually or automated)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Lookup list of group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For each device in each list of groups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8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Lucida Sans Typewriter"/>
              </a:rPr>
              <a:t>Connect to the equipment (telnet, ssh, …)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8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Lucida Sans Typewriter"/>
              </a:rPr>
              <a:t>Run ”show” commands – config, inventory, ...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8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Lucida Sans Typewriter"/>
              </a:rPr>
              <a:t>Collect, filter/format data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8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Lucida Sans Typewriter"/>
              </a:rPr>
              <a:t>Retrieve the resulting config files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8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Lucida Sans Typewriter"/>
              </a:rPr>
              <a:t>CVS check-in the changes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8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Lucida Sans Typewriter"/>
              </a:rPr>
              <a:t>Generate a diff(1) from the previous version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8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Lucida Sans Typewriter"/>
              </a:rPr>
              <a:t>E-mail the diff to a mail address (individual or group)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hat to use it for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Track changes in the configuration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Track changes in the hardware (S/N, modules)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Track version changes in the OS (IOS, CatOS versions)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Find out what your colleagues have done without telling you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Post processing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Run traditional filtering commands on your configs (grep, sed, for information)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Re-use the automated login tools to build your own batch tools or do interactive login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On large configurations, you can parallelize operation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Other application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Automated checks (verify configs for strange/inconsistent setup)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Generate DNS file from equipment list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Use IP address adjacency to produce a graph of your network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Reference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200" spc="-1" strike="noStrike">
                <a:solidFill>
                  <a:srgbClr val="333333"/>
                </a:solidFill>
                <a:latin typeface="Lucida Sans Typewriter"/>
              </a:rPr>
              <a:t>http://www.shrubbery.net/rancid/ 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200" spc="-1" strike="noStrike">
                <a:solidFill>
                  <a:srgbClr val="333333"/>
                </a:solidFill>
                <a:latin typeface="Lucida Sans Typewriter"/>
              </a:rPr>
              <a:t>http://www.shrubbery.net/rancid/NANOG29/ 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200" spc="-1" strike="noStrike">
                <a:solidFill>
                  <a:srgbClr val="333333"/>
                </a:solidFill>
                <a:latin typeface="Lucida Sans Typewriter"/>
              </a:rPr>
              <a:t>http://www.linuxhomenetworking.com/wiki/index.php/Quick_HOWTO_:_Ch1_:_Network_Backups_With_Rancid 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200" spc="-1" strike="noStrike">
                <a:solidFill>
                  <a:srgbClr val="333333"/>
                </a:solidFill>
                <a:latin typeface="Lucida Sans Typewriter"/>
              </a:rPr>
              <a:t>http://gentoo-wiki.com/HOWTO_Rancid 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200" spc="-1" strike="noStrike">
                <a:solidFill>
                  <a:srgbClr val="333333"/>
                </a:solidFill>
                <a:latin typeface="Lucida Sans Typewriter"/>
              </a:rPr>
              <a:t>http://homepage.mac.com/duling/halfdozen/RANCID-Howto.html 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17:29:28Z</dcterms:created>
  <dc:creator/>
  <dc:description/>
  <dc:language>en-US</dc:language>
  <cp:lastModifiedBy>Phil Regnauld</cp:lastModifiedBy>
  <cp:lastPrinted>2007-08-28T07:32:47Z</cp:lastPrinted>
  <dcterms:modified xsi:type="dcterms:W3CDTF">2010-02-25T03:01:19Z</dcterms:modified>
  <cp:revision>89</cp:revision>
  <dc:subject/>
  <dc:title>    Track E0 AfNOG workshop April 23-27 2007 Abuja, Nigeria    </dc:title>
</cp:coreProperties>
</file>