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CD282-BE72-416D-A764-EBDEE7263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9DEC1-C9AD-48D9-A8C5-BEAFF410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66EC-3E38-4B3F-AC3B-BF30DB410B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FF4D3-030C-46E3-9EEF-6B8282F826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B0A84-99F1-451C-9AA7-1E5DEBE38D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F73B7-4833-4F41-9703-82AB9D65BA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FCF91-6741-4234-BEEF-F87DC5576E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87FB7-6F1A-46ED-A207-6F1B5D8B3E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ECF3A-CDBD-4235-A3CC-5A1C041A7C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75504-F9E7-4C7E-9F9A-342BFE56FD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CEF9E-09EA-4204-9B56-09EAF3EF7E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F21F-FB82-4CDA-B9BF-7C050BD723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D6D76-18EC-457D-970B-230E6E7947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56F-4E3B-4CFC-8EAC-3B5E5F8B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175-5EF2-4DBD-85D8-485FEC1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EC2-2B14-43C2-906E-0CF7693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06F-8AF4-48C4-BDBC-EA5C6C6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363-057A-4F9F-B23A-99D441A7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81E-5EBD-41D8-BABC-E3811A2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FEE-9F8D-4D7C-9288-1446CCB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28F-6D33-484B-97D5-A9B56A8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370-74FD-4700-8D08-F0E0ABF3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C74-22EC-4E8C-B7CC-E1389A7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2F6-99AD-48E9-8DC5-5DD01A82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0FD-DAEE-4A69-A1C1-E37D588C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F54-24B4-456C-932F-C72F5DE5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081-37CB-4937-A391-D074FDA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A529-32F2-4A4D-A792-101F0DD8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6249-369F-4CD0-9564-1A4F7C27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7F1-E8E0-433F-B33B-1F37D7C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009-2FB0-47F6-87E6-7D9B27F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F73C-ACBC-42C1-9D11-3BB77BE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A61-D909-444C-B0FF-3818EBF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94CA-AA3B-499D-9456-74DDADE7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3FEF-6E30-48F5-9380-84291D26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9E53-999A-4311-9E16-0DD584B6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F66-A2EC-44BA-B37F-85BD9E8A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A56D-CDFE-40E1-AB6A-9F7398BF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BB36-9933-401F-9044-2CE4F696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222B-4811-4403-9401-CB57A021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5512-5BF0-4A71-86C7-2F82C5AF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E213-AE95-4434-B890-83EC499D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D494-80BC-4460-BCAB-CD27275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3D7A-7C24-4EF3-B84F-196A5FAA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389F-3870-471F-BE71-B5B1D207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8E05-A1D6-465A-B4B4-5A7E7778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216C-7D3F-4E6C-8905-3D3758A3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8283-9DE9-42C9-B88F-D015C9E0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2C41-8E01-4918-A36A-B4D8515F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PPslide5"/>
          <p:cNvPicPr/>
          <p:nvPr/>
        </p:nvPicPr>
        <p:blipFill>
          <a:blip r:embed="rId2"/>
          <a:stretch/>
        </p:blipFill>
        <p:spPr>
          <a:xfrm>
            <a:off x="-6480" y="-12600"/>
            <a:ext cx="9156960" cy="687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nsrc.jpg"/>
          <p:cNvPicPr/>
          <p:nvPr/>
        </p:nvPicPr>
        <p:blipFill>
          <a:blip r:embed="rId3"/>
          <a:stretch/>
        </p:blipFill>
        <p:spPr>
          <a:xfrm>
            <a:off x="274680" y="652320"/>
            <a:ext cx="3859200" cy="191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pricot-2010-logo.png"/>
          <p:cNvPicPr/>
          <p:nvPr/>
        </p:nvPicPr>
        <p:blipFill>
          <a:blip r:embed="rId4"/>
          <a:stretch/>
        </p:blipFill>
        <p:spPr>
          <a:xfrm>
            <a:off x="4668840" y="658800"/>
            <a:ext cx="399888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50EFD-CABA-4538-ABFB-01199DD8AD92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1790D-F495-4ABD-AB3C-97C08D9EBA14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A3B37-7F76-47AB-882F-AF135E13E185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witch.ch/network/operation/statistics/geant2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951000"/>
            <a:ext cx="7772400" cy="14698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RTG and RRD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2404800"/>
            <a:ext cx="64008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COT 2010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ala Lumpur, Malay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18760" y="1346040"/>
            <a:ext cx="36921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1920" bIns="42480" anchor="t">
            <a:spAutoFit/>
          </a:bodyPr>
          <a:p>
            <a:pPr>
              <a:lnSpc>
                <a:spcPct val="93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msmincho"/>
              </a:rPr>
              <a:t>Recent data stored once </a:t>
            </a:r>
            <a:br>
              <a:rPr sz="2200"/>
            </a:b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msmincho"/>
              </a:rPr>
              <a:t>every 5 minutes for the past </a:t>
            </a:r>
            <a:br>
              <a:rPr sz="2200"/>
            </a:b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msmincho"/>
              </a:rPr>
              <a:t>2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144320" y="5743440"/>
            <a:ext cx="49798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1920" bIns="42480" anchor="t">
            <a:spAutoFit/>
          </a:bodyPr>
          <a:p>
            <a:pPr>
              <a:lnSpc>
                <a:spcPct val="93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msmincho"/>
              </a:rPr>
              <a:t>Medium length data averaged to one </a:t>
            </a:r>
            <a:br>
              <a:rPr sz="1800"/>
            </a:b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msmincho"/>
              </a:rPr>
              <a:t>entry per half hour for the last 5 hours (6:10)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msmincho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222440" y="1403280"/>
            <a:ext cx="4774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1920" bIns="42480" anchor="t">
            <a:spAutoFit/>
          </a:bodyPr>
          <a:p>
            <a:pPr>
              <a:lnSpc>
                <a:spcPts val="1837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Arial"/>
                <a:ea typeface="msmincho"/>
              </a:rPr>
              <a:t>Old data averaged to one entry 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37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Arial"/>
                <a:ea typeface="msmincho"/>
              </a:rPr>
              <a:t>day for the last 365 days (288:36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1954080" y="2489040"/>
            <a:ext cx="4898880" cy="2209680"/>
            <a:chOff x="1954080" y="2489040"/>
            <a:chExt cx="4898880" cy="2209680"/>
          </a:xfrm>
        </p:grpSpPr>
        <p:sp>
          <p:nvSpPr>
            <p:cNvPr id="262" name="AutoShape 6"/>
            <p:cNvSpPr/>
            <p:nvPr/>
          </p:nvSpPr>
          <p:spPr>
            <a:xfrm>
              <a:off x="1954080" y="248904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>
              <a:off x="1954080" y="267444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>
              <a:off x="1954080" y="2857320"/>
              <a:ext cx="1634400" cy="1836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>
              <a:off x="1954080" y="304236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>
              <a:off x="1954080" y="3225240"/>
              <a:ext cx="1634400" cy="18504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3587040" y="2489040"/>
              <a:ext cx="163440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2"/>
            <p:cNvSpPr/>
            <p:nvPr/>
          </p:nvSpPr>
          <p:spPr>
            <a:xfrm>
              <a:off x="5218560" y="2489040"/>
              <a:ext cx="1634400" cy="1105560"/>
            </a:xfrm>
            <a:prstGeom prst="roundRect">
              <a:avLst>
                <a:gd name="adj" fmla="val 13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3"/>
            <p:cNvSpPr/>
            <p:nvPr/>
          </p:nvSpPr>
          <p:spPr>
            <a:xfrm>
              <a:off x="1954080" y="340920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4"/>
            <p:cNvSpPr/>
            <p:nvPr/>
          </p:nvSpPr>
          <p:spPr>
            <a:xfrm>
              <a:off x="1954080" y="359352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5"/>
            <p:cNvSpPr/>
            <p:nvPr/>
          </p:nvSpPr>
          <p:spPr>
            <a:xfrm>
              <a:off x="1954080" y="377568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6"/>
            <p:cNvSpPr/>
            <p:nvPr/>
          </p:nvSpPr>
          <p:spPr>
            <a:xfrm>
              <a:off x="1954080" y="3961440"/>
              <a:ext cx="1634400" cy="1836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7"/>
            <p:cNvSpPr/>
            <p:nvPr/>
          </p:nvSpPr>
          <p:spPr>
            <a:xfrm>
              <a:off x="1954080" y="414540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8"/>
            <p:cNvSpPr/>
            <p:nvPr/>
          </p:nvSpPr>
          <p:spPr>
            <a:xfrm>
              <a:off x="3587040" y="3041280"/>
              <a:ext cx="163440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9"/>
            <p:cNvSpPr/>
            <p:nvPr/>
          </p:nvSpPr>
          <p:spPr>
            <a:xfrm>
              <a:off x="3587040" y="3593520"/>
              <a:ext cx="1634400" cy="55188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20"/>
            <p:cNvSpPr/>
            <p:nvPr/>
          </p:nvSpPr>
          <p:spPr>
            <a:xfrm>
              <a:off x="3587040" y="4145400"/>
              <a:ext cx="163440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1"/>
            <p:cNvSpPr/>
            <p:nvPr/>
          </p:nvSpPr>
          <p:spPr>
            <a:xfrm>
              <a:off x="1954080" y="432756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22"/>
            <p:cNvSpPr/>
            <p:nvPr/>
          </p:nvSpPr>
          <p:spPr>
            <a:xfrm>
              <a:off x="1954080" y="4511880"/>
              <a:ext cx="163440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23"/>
            <p:cNvSpPr/>
            <p:nvPr/>
          </p:nvSpPr>
          <p:spPr>
            <a:xfrm>
              <a:off x="5218560" y="3593520"/>
              <a:ext cx="1634400" cy="1105200"/>
            </a:xfrm>
            <a:prstGeom prst="roundRect">
              <a:avLst>
                <a:gd name="adj" fmla="val 13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4"/>
          <p:cNvSpPr/>
          <p:nvPr/>
        </p:nvSpPr>
        <p:spPr>
          <a:xfrm>
            <a:off x="514080" y="5513400"/>
            <a:ext cx="3465000" cy="88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70200" bIns="42480" anchor="t">
            <a:spAutoFit/>
          </a:bodyPr>
          <a:p>
            <a:pPr algn="ctr">
              <a:lnSpc>
                <a:spcPct val="94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2217600" y="4718160"/>
            <a:ext cx="13258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0200" bIns="42480" anchor="t">
            <a:spAutoFit/>
          </a:bodyPr>
          <a:p>
            <a:pPr algn="ctr">
              <a:lnSpc>
                <a:spcPct val="94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676680" y="4737240"/>
            <a:ext cx="13255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0200" bIns="42480" anchor="t">
            <a:spAutoFit/>
          </a:bodyPr>
          <a:p>
            <a:pPr algn="ctr">
              <a:lnSpc>
                <a:spcPct val="94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5181480" y="4770360"/>
            <a:ext cx="17226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0200" bIns="42480" anchor="t">
            <a:spAutoFit/>
          </a:bodyPr>
          <a:p>
            <a:pPr algn="ctr">
              <a:lnSpc>
                <a:spcPct val="94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7651440" y="3184560"/>
            <a:ext cx="767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9040" bIns="42480" anchor="t">
            <a:spAutoFit/>
          </a:bodyPr>
          <a:p>
            <a:pPr algn="ctr">
              <a:lnSpc>
                <a:spcPct val="94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9"/>
          <p:cNvSpPr/>
          <p:nvPr/>
        </p:nvSpPr>
        <p:spPr>
          <a:xfrm>
            <a:off x="6988320" y="2448000"/>
            <a:ext cx="396720" cy="2147760"/>
          </a:xfrm>
          <a:prstGeom prst="pie">
            <a:avLst/>
          </a:pr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0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Title 3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88" name="Title 3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msmincho"/>
                </a:rPr>
                <a:t>RRDtool database forma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Curved Connector 33"/>
          <p:cNvCxnSpPr/>
          <p:nvPr/>
        </p:nvCxnSpPr>
        <p:spPr>
          <a:xfrm flipV="1" rot="16200000">
            <a:off x="4638240" y="5004720"/>
            <a:ext cx="743760" cy="426240"/>
          </a:xfrm>
          <a:prstGeom prst="curvedConnector5">
            <a:avLst>
              <a:gd name="adj1" fmla="val 49975"/>
              <a:gd name="adj2" fmla="val 49957"/>
              <a:gd name="adj3" fmla="val 49975"/>
            </a:avLst>
          </a:prstGeom>
          <a:ln w="255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1" name="Curved Connector 37"/>
          <p:cNvCxnSpPr/>
          <p:nvPr/>
        </p:nvCxnSpPr>
        <p:spPr>
          <a:xfrm flipH="1" rot="16200000">
            <a:off x="1823040" y="2079360"/>
            <a:ext cx="369000" cy="34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2" name="Curved Connector 39"/>
          <p:cNvCxnSpPr/>
          <p:nvPr/>
        </p:nvCxnSpPr>
        <p:spPr>
          <a:xfrm rot="5400000">
            <a:off x="6483960" y="2058840"/>
            <a:ext cx="372240" cy="3373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94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ing data granula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keep 5-minute data for an entir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you specify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105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Where did “105120”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300 seconds =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525600 minutes/year 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525600/5 = 105120 “300 second intervals” in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Rectang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98" name="Rectang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568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rdtool command line examp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1000" bIns="46800" anchor="t">
            <a:normAutofit/>
          </a:bodyPr>
          <a:p>
            <a:pPr marL="338040" indent="-338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Title 4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02" name="Title 4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cti using rrdtool for graph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6" descr="cacti-mrtg-graphs.png"/>
          <p:cNvPicPr/>
          <p:nvPr/>
        </p:nvPicPr>
        <p:blipFill>
          <a:blip r:embed="rId2"/>
          <a:stretch/>
        </p:blipFill>
        <p:spPr>
          <a:xfrm>
            <a:off x="871560" y="1219320"/>
            <a:ext cx="6230880" cy="55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0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RDTool in the backgro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nd stores data for tools we use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ny more network monitoring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3320" bIns="46800" anchor="t">
            <a:normAutofit/>
          </a:bodyPr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11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RDTool Ubuntu install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14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ere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T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oss.oetiker.ch/mrt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DTo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oss.oetiker.ch/rrdtoo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rrdt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– a good r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bis’ d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tobi.oetiker.ch/wis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ke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oss.oetiker.ch/smokep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www.cacti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g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www.nagios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Rectang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22" name="Rectang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568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 Router Traffic Grapher (MRTG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7040" y="1339920"/>
            <a:ext cx="84326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5040" bIns="46800" anchor="t">
            <a:normAutofit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TG generates HTML pages containing PNG images which provide an almost live visual representation of this traffic. Check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oss.oetiker.ch/mrtg/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mor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rtg pages:</a:t>
            </a:r>
            <a:br>
              <a:rPr sz="1200"/>
            </a:br>
            <a:br>
              <a:rPr sz="12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have a router, you want to know what it does all day long? Then MRTG is for you. It will monitor SNMP network devices and draw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retty pict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howing how much traffic has passed through each interfac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mrtg-daily.png"/>
          <p:cNvPicPr/>
          <p:nvPr/>
        </p:nvPicPr>
        <p:blipFill>
          <a:blip r:embed="rId3"/>
          <a:stretch/>
        </p:blipFill>
        <p:spPr>
          <a:xfrm>
            <a:off x="3625920" y="4960800"/>
            <a:ext cx="48848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27" name="Rectang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568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RTG continue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ts val="2475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 during this millen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ts val="2475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ts val="2475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ts val="2475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ts val="2475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ts val="2475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graphing round trip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RTG generates each graph every 5 minutes. This can create considerable overhead if you are graphing for many devices (100’s of routers with multiple interfaces for instance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840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500 routers, 2 interfaces each = 1000 graphs to generate. Potential CPU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17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few customizable graphing 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17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RTG management itself can be tedious work (see next slid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32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RTG issu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Rectang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35" name="Rectang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568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unning MRT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124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stall or compile required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Arial"/>
              </a:rPr>
              <a:t>apt-get install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Arial"/>
              </a:rPr>
              <a:t>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39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RTG graph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3" descr="mrtg-daily.png"/>
          <p:cNvPicPr/>
          <p:nvPr/>
        </p:nvPicPr>
        <p:blipFill>
          <a:blip r:embed="rId2"/>
          <a:stretch/>
        </p:blipFill>
        <p:spPr>
          <a:xfrm>
            <a:off x="577800" y="1244520"/>
            <a:ext cx="4824360" cy="142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mrtg-monthly.png"/>
          <p:cNvPicPr/>
          <p:nvPr/>
        </p:nvPicPr>
        <p:blipFill>
          <a:blip r:embed="rId3"/>
          <a:stretch/>
        </p:blipFill>
        <p:spPr>
          <a:xfrm>
            <a:off x="596880" y="3960720"/>
            <a:ext cx="4902120" cy="145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mrtg-yearly.png"/>
          <p:cNvPicPr/>
          <p:nvPr/>
        </p:nvPicPr>
        <p:blipFill>
          <a:blip r:embed="rId4"/>
          <a:stretch/>
        </p:blipFill>
        <p:spPr>
          <a:xfrm>
            <a:off x="4068720" y="5238720"/>
            <a:ext cx="4902120" cy="1441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mrtg-weekly.png"/>
          <p:cNvPicPr/>
          <p:nvPr/>
        </p:nvPicPr>
        <p:blipFill>
          <a:blip r:embed="rId5"/>
          <a:stretch/>
        </p:blipFill>
        <p:spPr>
          <a:xfrm>
            <a:off x="4146480" y="2666880"/>
            <a:ext cx="48243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533520" y="382680"/>
            <a:ext cx="62481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Title 4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47" name="Title 4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nd Robin Database Tool: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RDToo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26680" y="1393920"/>
            <a:ext cx="8048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6120" indent="-546120">
              <a:lnSpc>
                <a:spcPct val="93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Round Robin Database for time series 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87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Command line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87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From the author of MRT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87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Made to be faster and more flexible than using MRTG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87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Includes CGI and Graphing tools, plus API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msmincho"/>
              </a:rPr>
              <a:t>rrdgraph, rrdcreate,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87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Solves the Historical Trends and Simple Interfa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0">
              <a:spcBef>
                <a:spcPts val="799"/>
              </a:spcBef>
              <a:buNone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Title 6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51" name="Title 6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Data Sources (Inputs)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87360" indent="0">
              <a:lnSpc>
                <a:spcPct val="94000"/>
              </a:lnSpc>
              <a:spcBef>
                <a:spcPts val="711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When you invok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rrdto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you specify opt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4000"/>
              </a:lnSpc>
              <a:spcBef>
                <a:spcPts val="711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such as these on the command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lnSpc>
                <a:spcPct val="94000"/>
              </a:lnSpc>
              <a:spcBef>
                <a:spcPts val="711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lnSpc>
                <a:spcPct val="94000"/>
              </a:lnSpc>
              <a:spcBef>
                <a:spcPts val="711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93760">
              <a:lnSpc>
                <a:spcPct val="93000"/>
              </a:lnSpc>
              <a:spcBef>
                <a:spcPts val="539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msmincho"/>
              </a:rPr>
              <a:t>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= Dat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93760">
              <a:lnSpc>
                <a:spcPct val="93000"/>
              </a:lnSpc>
              <a:spcBef>
                <a:spcPts val="539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msmincho"/>
              </a:rPr>
              <a:t>spe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msmincho"/>
              </a:rPr>
              <a:t>fu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= “variable”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93760">
              <a:lnSpc>
                <a:spcPct val="93000"/>
              </a:lnSpc>
              <a:spcBef>
                <a:spcPts val="539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COUNTER, GAUGE = variab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93760">
              <a:lnSpc>
                <a:spcPct val="93000"/>
              </a:lnSpc>
              <a:spcBef>
                <a:spcPts val="539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msmincho"/>
              </a:rPr>
              <a:t>6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= heart beat – UNKNOWN returned for interval i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nothing received after this amoun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93760">
              <a:lnSpc>
                <a:spcPct val="93000"/>
              </a:lnSpc>
              <a:spcBef>
                <a:spcPts val="539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msmincho"/>
              </a:rPr>
              <a:t>U: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= limits on minimum and maximum variabl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values (U means unknown and any value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permitte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Title 7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55" name="Title 7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Archives (Outputs)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27040" y="1306440"/>
            <a:ext cx="8432640" cy="5461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6000"/>
          </a:bodyPr>
          <a:p>
            <a:pPr marL="371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48400">
              <a:lnSpc>
                <a:spcPct val="77000"/>
              </a:lnSpc>
              <a:spcBef>
                <a:spcPts val="437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  <a:ea typeface="msmincho"/>
              </a:rPr>
              <a:t>RR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48400">
              <a:lnSpc>
                <a:spcPct val="77000"/>
              </a:lnSpc>
              <a:spcBef>
                <a:spcPts val="437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  <a:ea typeface="msmincho"/>
              </a:rPr>
              <a:t>AVERAG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48400">
              <a:lnSpc>
                <a:spcPct val="77000"/>
              </a:lnSpc>
              <a:spcBef>
                <a:spcPts val="437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  <a:ea typeface="msmincho"/>
              </a:rPr>
              <a:t>0.5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77000"/>
              </a:lnSpc>
              <a:spcBef>
                <a:spcPts val="437"/>
              </a:spcBef>
              <a:buNone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48400">
              <a:lnSpc>
                <a:spcPct val="77000"/>
              </a:lnSpc>
              <a:spcBef>
                <a:spcPts val="437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  <a:ea typeface="msmincho"/>
              </a:rPr>
              <a:t>1:24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= this RRA keeps each sample (average over on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5 minute  primary sample), 24 times (which is 2 hours worth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77000"/>
              </a:lnSpc>
              <a:spcBef>
                <a:spcPts val="437"/>
              </a:spcBef>
              <a:buNone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48400">
              <a:lnSpc>
                <a:spcPct val="77000"/>
              </a:lnSpc>
              <a:spcBef>
                <a:spcPts val="437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  <a:ea typeface="msmincho"/>
              </a:rPr>
              <a:t>6:10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= one RRA keeps an average over every six 5 minut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primary samples (30 minutes), 10 times (which is 5 hour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worth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48400">
              <a:lnSpc>
                <a:spcPct val="77000"/>
              </a:lnSpc>
              <a:spcBef>
                <a:spcPts val="437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All depends on original step size which defaults to 5 minutes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i.e. “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dcreate --step 3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mincho"/>
              </a:rPr>
              <a:t>”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77000"/>
              </a:lnSpc>
              <a:spcBef>
                <a:spcPts val="437"/>
              </a:spcBef>
              <a:buNone/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Was that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700"/>
              </a:spcBef>
              <a:buNone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6:42:42Z</dcterms:created>
  <dc:creator>Hervey Allen</dc:creator>
  <dc:description/>
  <dc:language>en-US</dc:language>
  <cp:lastModifiedBy>Hervey Allen</cp:lastModifiedBy>
  <dcterms:modified xsi:type="dcterms:W3CDTF">2010-02-24T19:05:40Z</dcterms:modified>
  <cp:revision>52</cp:revision>
  <dc:subject/>
  <dc:title>Slide 1</dc:title>
</cp:coreProperties>
</file>