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c3d69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8b954"/>
            </a:solidFill>
            <a:miter/>
          </a:ln>
          <a:effectLst>
            <a:outerShdw dist="1980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4f6228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4f6228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Pslide5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nsrc.jpg"/>
          <p:cNvPicPr/>
          <p:nvPr/>
        </p:nvPicPr>
        <p:blipFill>
          <a:blip r:embed="rId3"/>
          <a:stretch/>
        </p:blipFill>
        <p:spPr>
          <a:xfrm>
            <a:off x="274680" y="652320"/>
            <a:ext cx="385920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icot-2010-logo.png"/>
          <p:cNvPicPr/>
          <p:nvPr/>
        </p:nvPicPr>
        <p:blipFill>
          <a:blip r:embed="rId4"/>
          <a:stretch/>
        </p:blipFill>
        <p:spPr>
          <a:xfrm>
            <a:off x="4668840" y="658800"/>
            <a:ext cx="399888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c3d69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8b954"/>
            </a:solidFill>
            <a:miter/>
          </a:ln>
          <a:effectLst>
            <a:outerShdw dist="1980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951000"/>
            <a:ext cx="77724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98b954"/>
            </a:solidFill>
            <a:miter/>
          </a:ln>
          <a:effectLst>
            <a:outerShdw dist="19800" dir="5400000" blurRad="0" rotWithShape="0">
              <a:srgbClr val="808080">
                <a:alpha val="38000"/>
              </a:srgbClr>
            </a:outerShdw>
          </a:effectLst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elcome Everyone!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404800"/>
            <a:ext cx="64008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work Monitoring and Management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18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s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8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als and this week’s schedu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everyone comfortable with concepts of monitoring traffic and services on your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our own monitoring stations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eet each other and share knowledge amongst oursel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rn something ne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swer your questions and to have you ask lots of questions as we go a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90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o we a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vey All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vey@nsrc.o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living i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 Regnau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nauld@nsrc.o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living in Den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l Ooi Cong J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.ooi@globaltransit.n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local helper extraordinai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94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ily time schedu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900-103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0-11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 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-123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0-14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 I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00-153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30-16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 I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0-18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98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riculu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4" descr="curriculum.png"/>
          <p:cNvPicPr/>
          <p:nvPr/>
        </p:nvPicPr>
        <p:blipFill>
          <a:blip r:embed="rId2"/>
          <a:stretch/>
        </p:blipFill>
        <p:spPr>
          <a:xfrm>
            <a:off x="755640" y="1163520"/>
            <a:ext cx="42973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02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room detai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ll system administ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charge of your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our lives easier please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hanging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m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r passwords during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configuring other attendee’s machin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instead of working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0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network (for now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" descr="network-diagram.png"/>
          <p:cNvPicPr/>
          <p:nvPr/>
        </p:nvPicPr>
        <p:blipFill>
          <a:blip r:embed="rId2"/>
          <a:stretch/>
        </p:blipFill>
        <p:spPr>
          <a:xfrm>
            <a:off x="523800" y="1657440"/>
            <a:ext cx="84740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10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few conventions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 “$” then execute the command as a regular us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m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 “#” then you can either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ecute the command as a regular user, or execute the command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(very, very) few typos. Be on the lookout and let us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erci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you all the steps! This is on purpose to let you apply newly found ski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14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wiki and no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, presentations, schedules, photos, machine information and much more is posted to:</a:t>
            </a:r>
            <a:br>
              <a:rPr sz="1200"/>
            </a:br>
            <a:br>
              <a:rPr sz="1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ttp://nsrc.org/workshops/2010/aprico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gister on this wiki and update information as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oc, noc.mgmt.conference.apricot.net, is accessible as “noc” or 169.223.14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 will be given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9:41:43Z</dcterms:created>
  <dc:creator>Hervey Allen</dc:creator>
  <dc:description/>
  <dc:language>en-US</dc:language>
  <cp:lastModifiedBy>Hervey Allen</cp:lastModifiedBy>
  <dcterms:modified xsi:type="dcterms:W3CDTF">2010-02-23T01:13:07Z</dcterms:modified>
  <cp:revision>34</cp:revision>
  <dc:subject/>
  <dc:title>Slide 1</dc:title>
</cp:coreProperties>
</file>