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ns3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558440"/>
            <a:ext cx="877248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Kuala Lumpur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10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Virtual router setu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0" y="5216400"/>
            <a:ext cx="366084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Virtual router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e use GNS3: </a:t>
            </a:r>
            <a:r>
              <a:rPr b="0" lang="da-DK" sz="3000" spc="-1" strike="noStrike" u="sng">
                <a:solidFill>
                  <a:srgbClr val="ccccff"/>
                </a:solidFill>
                <a:uFillTx/>
                <a:latin typeface="Lucida Sans Typewriter"/>
                <a:hlinkClick r:id="rId1"/>
              </a:rPr>
              <a:t>http://www.gns3.net/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pen Source Cisco emulato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IOS is NOT Open Source, and you need a license for these images!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Emulates the entire platform (not just IOS) – hardware, cards, …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8 virtual 3640 routers are setup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IP addresses: 169.223.142.11 - .18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e will quickly demo how to access them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PC1 + PC2 → .11, PC3 + PC4 → .12, …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7:29:28Z</dcterms:created>
  <dc:creator/>
  <dc:description/>
  <dc:language>en-US</dc:language>
  <cp:lastModifiedBy>Phil Regnauld</cp:lastModifiedBy>
  <cp:lastPrinted>2007-08-28T07:32:47Z</cp:lastPrinted>
  <dcterms:modified xsi:type="dcterms:W3CDTF">2010-02-24T01:10:33Z</dcterms:modified>
  <cp:revision>96</cp:revision>
  <dc:subject/>
  <dc:title>    Track E0 AfNOG workshop April 23-27 2007 Abuja, Nigeria    </dc:title>
</cp:coreProperties>
</file>