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252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0" y="4680"/>
            <a:ext cx="18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6415200"/>
            <a:ext cx="1440" cy="1647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-6415200"/>
            <a:ext cx="1440" cy="1647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0" y="4680"/>
            <a:ext cx="18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28920" y="763560"/>
            <a:ext cx="29145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28920" y="763560"/>
            <a:ext cx="29145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-6415200"/>
            <a:ext cx="1440" cy="1647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28920" y="763560"/>
            <a:ext cx="29145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-6415200"/>
            <a:ext cx="1440" cy="1647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6415200"/>
            <a:ext cx="1440" cy="1647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-6415200"/>
            <a:ext cx="1440" cy="1647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28920" y="763560"/>
            <a:ext cx="29145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428920" y="763560"/>
            <a:ext cx="29145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-6415200"/>
            <a:ext cx="1440" cy="1647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28920" y="763560"/>
            <a:ext cx="29145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28920" y="763560"/>
            <a:ext cx="29145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800" y="4589640"/>
            <a:ext cx="86025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8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0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400" y="210168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800" y="458964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400" y="458964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25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800" y="585720"/>
            <a:ext cx="860256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8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0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800" y="4589640"/>
            <a:ext cx="86025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607080"/>
            <a:ext cx="100807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7189920"/>
            <a:ext cx="154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nsrc@apricot 2010</a:t>
            </a:r>
            <a:br>
              <a:rPr sz="900"/>
            </a:b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Kuala Lumpur, Malays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estpractical.com/r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39440" y="457200"/>
            <a:ext cx="8607240" cy="640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msmincho"/>
              </a:rPr>
              <a:t>Ticketing Systems and Documen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4000"/>
              </a:lnSpc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4000"/>
              </a:lnSpc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4000"/>
              </a:lnSpc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msmincho"/>
              </a:rPr>
              <a:t>APRICOT 2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4000"/>
              </a:lnSpc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mincho"/>
              </a:rPr>
              <a:t>February 26 – Kuala Lumpur, 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6000"/>
              </a:lnSpc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6000"/>
              </a:lnSpc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46400" y="6107040"/>
            <a:ext cx="2090880" cy="5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547560"/>
            <a:ext cx="85676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cket Management 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2184480"/>
            <a:ext cx="85676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y do we use the term “ticket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 order to resolve a problem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want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's going to work on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did they ask, when was it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much time did it take (billing, hour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's left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thing is summarized and presented in a simple and intuitiv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6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6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r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curity problem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ssue Tracking / Incid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561600"/>
            <a:ext cx="856620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ssential Functional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2170080"/>
            <a:ext cx="85662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, CLI, e-mai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different levels: admin, general user, 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hentication and 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t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les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76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280" y="2066400"/>
            <a:ext cx="8567640" cy="3876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ster an event (i.e., ticket cre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gn an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gn intereste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chang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 interested parties of each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tive activities based on status or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511200"/>
            <a:ext cx="856764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ample: Why Used at the UO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764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mail traffic requesting help, servic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ved as text without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difficult to find current status or problem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problems were forgotten or never re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76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T: Advanta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7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848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en source and f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avily used and tes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ery activ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ite flexi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b interface and via e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6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T: Disadvanta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6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bit tricky to install the first tim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's powerful, so you'll need to spend some time learning how it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distributions have packages that make installation a bit eas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too, Debian, FreeBS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511200"/>
            <a:ext cx="856764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84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blem Classification: Que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280" y="1901520"/>
            <a:ext cx="85676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1240" bIns="46800" anchor="t">
            <a:normAutofit/>
          </a:bodyPr>
          <a:p>
            <a:pPr marL="338040" indent="-338040">
              <a:lnSpc>
                <a:spcPct val="8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T allows you to create queues so that problems are classified by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rvic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NS, IP addresses, Radius, L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ivit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unications infrastructur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curit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ttacks, scans, abus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mail accounts, password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4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561600"/>
            <a:ext cx="856620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eb Server 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2111400"/>
            <a:ext cx="85662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wo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rtualhost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http://rt.host.fq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bdirectory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http://host.fqdn/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ot user ('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nge the default password on first login ('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sign the complete email for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root@host.fq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sign all user rights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lobal -&gt; User Ri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6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ser Cre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6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reate a userid for each member of your NOC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ssign privileges to each us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450360"/>
            <a:ext cx="8604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Ticketing System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50760" y="1719360"/>
            <a:ext cx="8164800" cy="4887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7320" y="1503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Remember thi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6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reate Group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6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reate groups of us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ministering privileges by group is more efficient that doing so for each us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619200"/>
            <a:ext cx="85662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reate Que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2076120"/>
            <a:ext cx="8566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queues for problem categ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ou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sign users to each que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fferent between AdminCC and C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n't forget to create email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lias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or each que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619200"/>
            <a:ext cx="85662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crips (action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6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queue create automatic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group of scrips that apply to all que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to customize per queue or glob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crip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are “snippets of Perl cod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6620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2039760"/>
            <a:ext cx="856620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extend the functionality of RT.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d daily emails to remind users of tickets that have not been “tak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d daily emails to each user reminding them of their pending ti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iodically increment ticket prio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execute commands via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http://wiki.bestpractical.com/index.cgi?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76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7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624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est Practic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eb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bestpractical.com/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T Essential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Dave Rolsky et al. O'Re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477360"/>
            <a:ext cx="8604360" cy="13417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cketing 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1922400"/>
            <a:ext cx="860436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94680" bIns="0" anchor="t">
            <a:normAutofit fontScale="99000"/>
          </a:bodyPr>
          <a:p>
            <a:pPr marL="42444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y are they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ack all events, failures and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al point for help desk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se it to track all commun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oth internal and exter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vents originating from the outsid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ustomer compla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vents originating from the insid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ystem outages (direct or indirect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anned maintenance, upgrade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477360"/>
            <a:ext cx="8604360" cy="13417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cketing 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1922400"/>
            <a:ext cx="860436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icket system to follow each case, including internal communication between tech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ase is assigned a cas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ase goes through a similar life cyc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585720"/>
            <a:ext cx="860436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cketing Systems con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 Request with Tickets</a:t>
            </a:r>
            <a:br>
              <a:rPr sz="3200"/>
            </a:br>
            <a:br>
              <a:rPr sz="32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Ticket System      Helpdesk         Tech            Eqpt     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----------------------------------------------------------------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      T                T               T                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query      |                |               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from  </a:t>
            </a:r>
            <a:r>
              <a:rPr b="1" lang="en-GB" sz="1600" spc="-1" strike="noStrike">
                <a:solidFill>
                  <a:srgbClr val="00ae00"/>
                </a:solidFill>
                <a:latin typeface="Lucida Sans Typewriter"/>
              </a:rPr>
              <a:t>----&gt;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 |               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customer   |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-- 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request 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--&gt;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|                |</a:t>
            </a:r>
            <a:br>
              <a:rPr sz="1600"/>
            </a:b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&lt;- </a:t>
            </a:r>
            <a:r>
              <a:rPr b="0" lang="en-GB" sz="1600" spc="-1" strike="noStrike">
                <a:solidFill>
                  <a:srgbClr val="333333"/>
                </a:solidFill>
                <a:latin typeface="Lucida Sans Typewriter"/>
              </a:rPr>
              <a:t>ack.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|                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      |                |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&lt;-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comm </a:t>
            </a:r>
            <a:r>
              <a:rPr b="0" lang="en-GB" sz="1600" spc="-1" strike="noStrike">
                <a:solidFill>
                  <a:srgbClr val="0000ff"/>
                </a:solidFill>
                <a:latin typeface="Lucida Sans Typewriter"/>
              </a:rPr>
              <a:t>--&gt;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      |                |               |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fix issue </a:t>
            </a:r>
            <a:r>
              <a:rPr b="0" lang="en-GB" sz="1600" spc="-1" strike="noStrike">
                <a:solidFill>
                  <a:srgbClr val="0000ff"/>
                </a:solidFill>
                <a:latin typeface="Lucida Sans Typewriter"/>
              </a:rPr>
              <a:t>-&gt; </a:t>
            </a:r>
            <a:r>
              <a:rPr b="0" lang="en-GB" sz="1600" spc="-1" strike="noStrike">
                <a:solidFill>
                  <a:srgbClr val="333333"/>
                </a:solidFill>
                <a:latin typeface="Lucida Sans Typewriter"/>
              </a:rPr>
              <a:t>eqp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      |                |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&lt;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report fix 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customer </a:t>
            </a:r>
            <a:r>
              <a:rPr b="1" lang="en-GB" sz="1600" spc="-1" strike="noStrike">
                <a:solidFill>
                  <a:srgbClr val="00ae00"/>
                </a:solidFill>
                <a:latin typeface="Lucida Sans Typewriter"/>
              </a:rPr>
              <a:t>&lt;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&lt;-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respond </a:t>
            </a:r>
            <a:r>
              <a:rPr b="1" lang="en-GB" sz="1600" spc="-1" strike="noStrike">
                <a:solidFill>
                  <a:srgbClr val="0000ff"/>
                </a:solidFill>
                <a:latin typeface="Lucida Sans Typewriter"/>
              </a:rPr>
              <a:t>----</a:t>
            </a: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|               |                |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Lucida Sans Typewriter"/>
              </a:rPr>
              <a:t>           |                |               |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190440"/>
            <a:ext cx="860436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est Tracker &amp; Tra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453680"/>
            <a:ext cx="860436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0" bIns="0" anchor="t">
            <a:normAutofit fontScale="99000"/>
          </a:bodyPr>
          <a:p>
            <a:pPr marL="3394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vily used worldw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customized to your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what difficult to install and config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les large-scale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ybrid system that includes a wiki and project management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cketing system not as robust as rt, but works well for web-only ticket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 used for ”trac”king group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e're using for our class web page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ttp://nsrc.org/workshops/2010/aprico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54760" y="1379520"/>
            <a:ext cx="1292400" cy="1209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37400" y="3454560"/>
            <a:ext cx="2670120" cy="7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3600" y="1600200"/>
            <a:ext cx="2435400" cy="227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6920" y="2322360"/>
            <a:ext cx="5943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RT: Request Trac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3240" y="4738680"/>
            <a:ext cx="7543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ttp://bestpractical.com/r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38040"/>
            <a:ext cx="8604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's it Look Lik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69960" y="1452600"/>
            <a:ext cx="688176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76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7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a ticket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cessities and 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mon functiona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actice with RT (Request Track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 config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eate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eate que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sign actions to the que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eate message fil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dcterms:modified xsi:type="dcterms:W3CDTF">2010-02-27T01:28:21Z</dcterms:modified>
  <cp:revision>100</cp:revision>
  <dc:subject/>
  <dc:title/>
</cp:coreProperties>
</file>