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1FA5-CF48-4022-9CD2-2CEFA4F8B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39514-2764-4F8A-B191-C7B2EA348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568D1-0895-48DC-8D0B-2E1161C194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5C9F2-3B0E-440D-B507-1999E1558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26E0-CB24-49C2-B778-4F5C6FA4C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B8D7-52DB-450B-9BFC-FD915C5FC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0FE8-19CF-4179-993F-FE7FA450D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A191F-99F2-4871-B30E-41D7F3F82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D13BC-EED4-4D4B-9A5C-A157D1D70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D3191-6B52-4264-9CCB-F446F24C0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1F08-A3F2-4B07-A7B8-1544BAB8B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0D380-6BC0-4F5A-B2F5-A3D4AA9C4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4DAD5-24D5-4B41-A21A-5FDE0ED59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FF2C6-50D9-4706-AAED-6A743C0F69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808A5-C8D8-4F92-AEFC-E1066DFBA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05D8F-F0AF-4922-A1FD-91708E136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D9A8-B3EF-4975-900E-6799DF10D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CCDD0-841D-41C2-BF82-C36632553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CB76A-4E92-4F70-BD9D-8F4DE56C9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5039F-17D3-40D5-B4D2-33AE90C6D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33B31-C2C8-4548-9CB9-9E24B4D15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9730A-174B-4217-AC74-71D677B66C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B84A1-00AF-44F1-8C69-9F97BBCAD1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6856560"/>
            <a:ext cx="10080720" cy="703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8458200" y="7191360"/>
            <a:ext cx="1790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APRICOT 20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kuala lumpur, malays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36160"/>
            <a:ext cx="907236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asuring Delay with              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APRICOT 2010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Kuala Lumpur, Malaysi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599840"/>
            <a:ext cx="90723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701800" y="5313240"/>
            <a:ext cx="49420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742080" y="639720"/>
            <a:ext cx="23954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okeping configuration files in Ubuntu 9.10 are:</a:t>
            </a:r>
            <a:br>
              <a:rPr sz="30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Aler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Databas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ing/config.d/Gener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pathna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Presen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Prob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Slav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mokeping/config.d/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ly we spend most of our time in General, Probes and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Ale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986120" y="2239920"/>
            <a:ext cx="5838840" cy="363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Alerts *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 = netmanage@localhos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om = smokealert@noc.mgmt.conference.apritcot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biglo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==0%,==0%,==0%,==0%,&gt;0%,&gt;0%,&gt;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suddenly there is packet lo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somelo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&gt;0%,*12*,&gt;0%,*12*,&gt;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loss 3 times  in a r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986120" y="231300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Database *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ep     = 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ngs    =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sfn mrhb steps to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 1  1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12  43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 12  43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 12  43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144   7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144   7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144   7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Gene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986120" y="216864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General *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@include /etc/smokeping/config.d/path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Please edit this to suit your instal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wner    = netmanage@noc.mgmt.conference.apricot.ne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act  = netmanage@localh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noc/cgi-bin/smokeping.cg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lhost = localhos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each probe is now run in its ow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disable this to revert to the old behaviou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currentprobes =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ath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057400" y="2971800"/>
            <a:ext cx="5838840" cy="252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dmail = /usr/sbin/send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cache = /usr/local/smokeping/htdocs/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url   = 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atadir  = /usr/local/var/smoke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ddir  = /usr/local/var/smoke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localhost/smokeping/cgi-b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mokemail = /usr/local/etc/smokeping/smok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mail = /usr/local/etc/smokeping/t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79360" y="1568520"/>
            <a:ext cx="70232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nerally do not need to edit th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ear the t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49640" y="1984320"/>
            <a:ext cx="5589360" cy="441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esentation ***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emplate = /etc/smokeping/basepage.htm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cha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Cha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he most interesting destina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stddev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StdDev(entries=&gt;4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Standard Devi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Std Devi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Standard Deviation %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ma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Max(entries=&gt;5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Max Roundtrip 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by Ma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Max Roundtrip Time %f second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249640" y="1623960"/>
            <a:ext cx="5589360" cy="478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obes ***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F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sbin/f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D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di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lookup = www.uoregon.ed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tep = 18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ignore_cache = y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Smt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ks = 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Sla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249640" y="2379600"/>
            <a:ext cx="5589360" cy="173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*** Slaves ***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make sure this is not world-readable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secrets=/etc/smokeping/slave-secre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+slave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display_name=slave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color=0000ff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122040"/>
            <a:ext cx="90723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Targ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743440" y="1170000"/>
            <a:ext cx="3738600" cy="563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** Targets *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F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Network Latency Grap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niversity of Ore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O web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oregon.ed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niversidad Tecnologica Equinoc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HT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HT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ww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we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D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D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D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d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D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66840" y="1338120"/>
            <a:ext cx="41209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look at a sa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 that w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the ser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src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efault Probe: 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ing for delay and jitter (ping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formance and availability probe of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+ Local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 = N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= The NOC@tack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s = startloss,someloss,bigloss,rttdetect,hos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RRDTool (the same auth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s ICMP delay and can measure status of services such as HTTP, DNS, SMTP, SSH, LDA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you to define ranges on statistics and generat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Perl for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vely easy to install. In Ubuntu it's ver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nother Type of Prob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199404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nu = Squid on the N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tle = www-cache / HTTP fo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oc@mgmt.conference.apricot.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re Types of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97084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information available here: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oss.oetiker.ch/smokeping/probe/index.en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ew more prob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di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TcpC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c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in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bProxy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WW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okeping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http://oss.oetiker.ch/smokep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mple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fushizen.ne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s: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3200"/>
            </a:b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oss.oetiker.ch/smokeping/doc/smokeping_examples.e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pricot-2010-banner.png"/>
          <p:cNvPicPr/>
          <p:nvPr/>
        </p:nvPicPr>
        <p:blipFill>
          <a:blip r:embed="rId1"/>
          <a:stretch/>
        </p:blipFill>
        <p:spPr>
          <a:xfrm>
            <a:off x="669960" y="2298600"/>
            <a:ext cx="76453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: “Marketing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ePing keeps track of your network lat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f breed latency visua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graph explo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latency measurment plug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/Slave System for distributed meas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figurable alert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Latency Charts with the most 'interesting'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and OpenSource Software written in Perl written by Tobi Oetiker, the creator of MRTG and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smokeping-logo.png"/>
          <p:cNvPicPr/>
          <p:nvPr/>
        </p:nvPicPr>
        <p:blipFill>
          <a:blip r:embed="rId1"/>
          <a:stretch/>
        </p:blipFill>
        <p:spPr>
          <a:xfrm>
            <a:off x="6145200" y="2292480"/>
            <a:ext cx="346860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8960" y="1414440"/>
            <a:ext cx="819288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“Smoke” and the “Ping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sends multiples tests (pings), makes note of RTT, orders these and selects the me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t values of RTT are shown graphically as lighter and darkers shades of grey (the “smoke”). This conveys the idea of variable round trip times 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 of lost packets (if any) changes the color of the horizontal line across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to Read Smokeping Grap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482400"/>
            <a:ext cx="8605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nother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69880" y="1751040"/>
            <a:ext cx="90504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1680" y="1768320"/>
            <a:ext cx="9525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following packages are needed or recomme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rdtoo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www.fp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ho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echoping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edyCG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www.daemoninc.com/SpeedyCG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httpd.apache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www.per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an/Ubun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t-get install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ill find Smokeping running h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ttp://localhos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06:05Z</dcterms:created>
  <dc:creator/>
  <dc:description/>
  <dc:language>en-US</dc:language>
  <cp:lastModifiedBy>Hervey Allen</cp:lastModifiedBy>
  <dcterms:modified xsi:type="dcterms:W3CDTF">2010-02-25T22:51:07Z</dcterms:modified>
  <cp:revision>82</cp:revision>
  <dc:subject/>
  <dc:title>Measuring Delay with                                Network Design and Operations 24 July 2009   hervey@nsrc.org</dc:title>
</cp:coreProperties>
</file>