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3600" cy="124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 Box 1"/>
          <p:cNvSpPr/>
          <p:nvPr/>
        </p:nvSpPr>
        <p:spPr>
          <a:xfrm>
            <a:off x="1400040" y="914400"/>
            <a:ext cx="4054680" cy="313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 Box 1"/>
          <p:cNvSpPr/>
          <p:nvPr/>
        </p:nvSpPr>
        <p:spPr>
          <a:xfrm>
            <a:off x="1400040" y="914400"/>
            <a:ext cx="4054680" cy="313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1"/>
          <p:cNvSpPr/>
          <p:nvPr/>
        </p:nvSpPr>
        <p:spPr>
          <a:xfrm>
            <a:off x="1400040" y="914400"/>
            <a:ext cx="4054680" cy="313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 Box 1"/>
          <p:cNvSpPr/>
          <p:nvPr/>
        </p:nvSpPr>
        <p:spPr>
          <a:xfrm>
            <a:off x="1400040" y="914400"/>
            <a:ext cx="4054680" cy="313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ext Box 1"/>
          <p:cNvSpPr/>
          <p:nvPr/>
        </p:nvSpPr>
        <p:spPr>
          <a:xfrm>
            <a:off x="1400040" y="914400"/>
            <a:ext cx="4054680" cy="313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 Box 1"/>
          <p:cNvSpPr/>
          <p:nvPr/>
        </p:nvSpPr>
        <p:spPr>
          <a:xfrm>
            <a:off x="1400040" y="914400"/>
            <a:ext cx="4054680" cy="313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1"/>
          <p:cNvSpPr/>
          <p:nvPr/>
        </p:nvSpPr>
        <p:spPr>
          <a:xfrm>
            <a:off x="1440" y="0"/>
            <a:ext cx="1800" cy="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 Box 1"/>
          <p:cNvSpPr/>
          <p:nvPr/>
        </p:nvSpPr>
        <p:spPr>
          <a:xfrm>
            <a:off x="1440" y="0"/>
            <a:ext cx="1800" cy="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31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31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2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0640" y="3963600"/>
            <a:ext cx="4012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74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7480" y="1600200"/>
            <a:ext cx="26474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17760" y="1600200"/>
            <a:ext cx="26474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74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7480" y="3963600"/>
            <a:ext cx="26474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17760" y="3963600"/>
            <a:ext cx="26474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31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31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3120" cy="52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2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0640" y="3963600"/>
            <a:ext cx="4012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31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31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3" descr=""/>
          <p:cNvPicPr/>
          <p:nvPr/>
        </p:nvPicPr>
        <p:blipFill>
          <a:blip r:embed="rId2"/>
          <a:stretch/>
        </p:blipFill>
        <p:spPr>
          <a:xfrm>
            <a:off x="0" y="6172200"/>
            <a:ext cx="9144000" cy="685800"/>
          </a:xfrm>
          <a:prstGeom prst="rect">
            <a:avLst/>
          </a:prstGeom>
          <a:ln w="0">
            <a:noFill/>
          </a:ln>
        </p:spPr>
      </p:pic>
      <p:sp>
        <p:nvSpPr>
          <p:cNvPr id="3" name="Text Box 4"/>
          <p:cNvSpPr/>
          <p:nvPr/>
        </p:nvSpPr>
        <p:spPr>
          <a:xfrm>
            <a:off x="8577360" y="7191360"/>
            <a:ext cx="15415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900" spc="-1" strike="noStrike">
                <a:solidFill>
                  <a:srgbClr val="333333"/>
                </a:solidFill>
                <a:latin typeface="Verdana"/>
              </a:rPr>
              <a:t>nsrc@walc 2008 M</a:t>
            </a:r>
            <a:r>
              <a:rPr b="0" i="1" lang="en-US" sz="900" spc="-1" strike="noStrike">
                <a:solidFill>
                  <a:srgbClr val="333333"/>
                </a:solidFill>
                <a:latin typeface="Verdana"/>
                <a:ea typeface="Verdana"/>
              </a:rPr>
              <a:t>é</a:t>
            </a:r>
            <a:r>
              <a:rPr b="0" i="1" lang="en-US" sz="900" spc="-1" strike="noStrike">
                <a:solidFill>
                  <a:srgbClr val="333333"/>
                </a:solidFill>
                <a:latin typeface="Verdana"/>
              </a:rPr>
              <a:t>rida, Venezuela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8577360" y="7191360"/>
            <a:ext cx="15415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900" spc="-1" strike="noStrike">
                <a:solidFill>
                  <a:srgbClr val="333333"/>
                </a:solidFill>
                <a:latin typeface="Verdana"/>
              </a:rPr>
              <a:t>nsrc@walc 2008 M</a:t>
            </a:r>
            <a:r>
              <a:rPr b="0" i="1" lang="en-US" sz="900" spc="-1" strike="noStrike">
                <a:solidFill>
                  <a:srgbClr val="333333"/>
                </a:solidFill>
                <a:latin typeface="Verdana"/>
                <a:ea typeface="Verdana"/>
              </a:rPr>
              <a:t>é</a:t>
            </a:r>
            <a:r>
              <a:rPr b="0" i="1" lang="en-US" sz="900" spc="-1" strike="noStrike">
                <a:solidFill>
                  <a:srgbClr val="333333"/>
                </a:solidFill>
                <a:latin typeface="Verdana"/>
              </a:rPr>
              <a:t>rida, Venezuela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Text Box 6"/>
          <p:cNvSpPr/>
          <p:nvPr/>
        </p:nvSpPr>
        <p:spPr>
          <a:xfrm>
            <a:off x="7543800" y="6450120"/>
            <a:ext cx="160020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900" spc="-1" strike="noStrike">
                <a:solidFill>
                  <a:srgbClr val="333333"/>
                </a:solidFill>
                <a:latin typeface="Verdana"/>
              </a:rPr>
              <a:t>nsrc@APRICOT 2010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900" spc="-1" strike="noStrike">
                <a:solidFill>
                  <a:srgbClr val="333333"/>
                </a:solidFill>
                <a:latin typeface="Verdana"/>
              </a:rPr>
              <a:t>Kuala Lumpur, Malaysia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7617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568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Network and Server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tatistics using Cacti</a:t>
            </a:r>
            <a:br>
              <a:rPr sz="4400"/>
            </a:br>
            <a:br>
              <a:rPr sz="4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RICOT 201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uala Lumpur, Malaysia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rvey Al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3057480" y="5324400"/>
            <a:ext cx="3181320" cy="89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568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stallation: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1150920" y="1771560"/>
            <a:ext cx="6691320" cy="2379600"/>
          </a:xfrm>
          <a:prstGeom prst="rect">
            <a:avLst/>
          </a:prstGeom>
          <a:ln w="0">
            <a:noFill/>
          </a:ln>
        </p:spPr>
      </p:pic>
      <p:sp>
        <p:nvSpPr>
          <p:cNvPr id="70" name="Text Box 3"/>
          <p:cNvSpPr/>
          <p:nvPr/>
        </p:nvSpPr>
        <p:spPr>
          <a:xfrm>
            <a:off x="685800" y="5257800"/>
            <a:ext cx="754380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gain, use the workshop passwor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568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stallation: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>
            <a:off x="1150920" y="1771560"/>
            <a:ext cx="6691320" cy="2379600"/>
          </a:xfrm>
          <a:prstGeom prst="rect">
            <a:avLst/>
          </a:prstGeom>
          <a:ln w="0">
            <a:noFill/>
          </a:ln>
        </p:spPr>
      </p:pic>
      <p:sp>
        <p:nvSpPr>
          <p:cNvPr id="73" name="Text Box 3"/>
          <p:cNvSpPr/>
          <p:nvPr/>
        </p:nvSpPr>
        <p:spPr>
          <a:xfrm>
            <a:off x="685800" y="5149800"/>
            <a:ext cx="754380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ormational message. Is not normally an issu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568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stallation: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1150920" y="1771560"/>
            <a:ext cx="6691320" cy="2379600"/>
          </a:xfrm>
          <a:prstGeom prst="rect">
            <a:avLst/>
          </a:prstGeom>
          <a:ln w="0">
            <a:noFill/>
          </a:ln>
        </p:spPr>
      </p:pic>
      <p:sp>
        <p:nvSpPr>
          <p:cNvPr id="76" name="Text Box 3"/>
          <p:cNvSpPr/>
          <p:nvPr/>
        </p:nvSpPr>
        <p:spPr>
          <a:xfrm>
            <a:off x="685800" y="5149800"/>
            <a:ext cx="754380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are using Apache2. Be sure this is chosen, then highlight &lt;Ok&gt; and press &lt;ENTER&gt; to continu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568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stallation: 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2" descr=""/>
          <p:cNvPicPr/>
          <p:nvPr/>
        </p:nvPicPr>
        <p:blipFill>
          <a:blip r:embed="rId1"/>
          <a:stretch/>
        </p:blipFill>
        <p:spPr>
          <a:xfrm>
            <a:off x="1150920" y="1771560"/>
            <a:ext cx="6691320" cy="2379600"/>
          </a:xfrm>
          <a:prstGeom prst="rect">
            <a:avLst/>
          </a:prstGeom>
          <a:ln w="0">
            <a:noFill/>
          </a:ln>
        </p:spPr>
      </p:pic>
      <p:sp>
        <p:nvSpPr>
          <p:cNvPr id="79" name="Text Box 3"/>
          <p:cNvSpPr/>
          <p:nvPr/>
        </p:nvSpPr>
        <p:spPr>
          <a:xfrm>
            <a:off x="685800" y="5149800"/>
            <a:ext cx="7543800" cy="7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oose &lt;Yes&gt;. If you choose &lt;No&gt; you will have to manually configure your database at a later tim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568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stallation: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2" descr=""/>
          <p:cNvPicPr/>
          <p:nvPr/>
        </p:nvPicPr>
        <p:blipFill>
          <a:blip r:embed="rId1"/>
          <a:stretch/>
        </p:blipFill>
        <p:spPr>
          <a:xfrm>
            <a:off x="1150920" y="1771560"/>
            <a:ext cx="6691320" cy="2379600"/>
          </a:xfrm>
          <a:prstGeom prst="rect">
            <a:avLst/>
          </a:prstGeom>
          <a:ln w="0">
            <a:noFill/>
          </a:ln>
        </p:spPr>
      </p:pic>
      <p:sp>
        <p:nvSpPr>
          <p:cNvPr id="82" name="Text Box 3"/>
          <p:cNvSpPr/>
          <p:nvPr/>
        </p:nvSpPr>
        <p:spPr>
          <a:xfrm>
            <a:off x="685800" y="5149800"/>
            <a:ext cx="754380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our workshop passwor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568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stallation: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1"/>
          <a:stretch/>
        </p:blipFill>
        <p:spPr>
          <a:xfrm>
            <a:off x="1150920" y="1771560"/>
            <a:ext cx="6691320" cy="23796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3"/>
          <p:cNvSpPr/>
          <p:nvPr/>
        </p:nvSpPr>
        <p:spPr>
          <a:xfrm>
            <a:off x="685800" y="5149800"/>
            <a:ext cx="754380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gain, use the workshop passwor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568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stallation: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2" descr=""/>
          <p:cNvPicPr/>
          <p:nvPr/>
        </p:nvPicPr>
        <p:blipFill>
          <a:blip r:embed="rId1"/>
          <a:stretch/>
        </p:blipFill>
        <p:spPr>
          <a:xfrm>
            <a:off x="2851200" y="1843200"/>
            <a:ext cx="3421080" cy="1885680"/>
          </a:xfrm>
          <a:prstGeom prst="rect">
            <a:avLst/>
          </a:prstGeom>
          <a:ln w="0">
            <a:noFill/>
          </a:ln>
        </p:spPr>
      </p:pic>
      <p:sp>
        <p:nvSpPr>
          <p:cNvPr id="88" name="Text Box 3"/>
          <p:cNvSpPr/>
          <p:nvPr/>
        </p:nvSpPr>
        <p:spPr>
          <a:xfrm>
            <a:off x="685800" y="5149800"/>
            <a:ext cx="754380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ally, one last time, use the workshop passwor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71040" y="568440"/>
            <a:ext cx="780732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acti: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stal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71040" y="1775880"/>
            <a:ext cx="7947000" cy="436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Now use a web browser and open the following addres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2000"/>
              </a:lnSpc>
              <a:spcBef>
                <a:spcPts val="700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10 Pitch"/>
              </a:rPr>
              <a:t>http://localhost/cact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2000"/>
              </a:lnSpc>
              <a:spcBef>
                <a:spcPts val="700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You will see the following..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71040" y="495360"/>
            <a:ext cx="7807320" cy="10317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acti: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stal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3478320" y="5661000"/>
            <a:ext cx="250668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ess “Next &gt;&gt;”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" name="Picture 3" descr=""/>
          <p:cNvPicPr/>
          <p:nvPr/>
        </p:nvPicPr>
        <p:blipFill>
          <a:blip r:embed="rId1"/>
          <a:stretch/>
        </p:blipFill>
        <p:spPr>
          <a:xfrm>
            <a:off x="2003400" y="1598760"/>
            <a:ext cx="5391000" cy="404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71040" y="5680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acti: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stal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2"/>
          <p:cNvSpPr/>
          <p:nvPr/>
        </p:nvSpPr>
        <p:spPr>
          <a:xfrm>
            <a:off x="1550880" y="5189400"/>
            <a:ext cx="6197760" cy="7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hoose “New Install” and press “Next &gt;&gt;” again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992160" y="1641600"/>
            <a:ext cx="7281720" cy="3286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568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488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tool to monitor, store and presen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twork and system/server statis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igned around RRDTool with a special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phasis on the graphical interf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most all of Cacti's functionality can b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figured via the Web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47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47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47ff"/>
                </a:solidFill>
                <a:latin typeface="Arial"/>
              </a:rPr>
              <a:t>	</a:t>
            </a:r>
            <a:br>
              <a:rPr sz="3200"/>
            </a:br>
            <a:r>
              <a:rPr b="0" lang="en-US" sz="3200" spc="-1" strike="noStrike">
                <a:solidFill>
                  <a:srgbClr val="0047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0000ff"/>
                </a:solidFill>
                <a:uFillTx/>
                <a:latin typeface="Arial"/>
              </a:rPr>
              <a:t>http://www.cacti.net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71040" y="5680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acti: Instal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2"/>
          <p:cNvSpPr/>
          <p:nvPr/>
        </p:nvSpPr>
        <p:spPr>
          <a:xfrm>
            <a:off x="5288040" y="1554120"/>
            <a:ext cx="3417840" cy="461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Your screen should look like this. If it does not ask your instructor for help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ress “Finish”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Verdana"/>
              </a:rPr>
              <a:t>Note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Be sure that “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Verdana"/>
              </a:rPr>
              <a:t>RRDTool 1.2.x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” is chosen and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not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“1.0.x”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Picture 3" descr=""/>
          <p:cNvPicPr/>
          <p:nvPr/>
        </p:nvPicPr>
        <p:blipFill>
          <a:blip r:embed="rId1"/>
          <a:stretch/>
        </p:blipFill>
        <p:spPr>
          <a:xfrm>
            <a:off x="1246320" y="1576440"/>
            <a:ext cx="3638520" cy="4537080"/>
          </a:xfrm>
          <a:prstGeom prst="rect">
            <a:avLst/>
          </a:prstGeom>
          <a:ln w="0">
            <a:noFill/>
          </a:ln>
        </p:spPr>
      </p:pic>
      <p:sp>
        <p:nvSpPr>
          <p:cNvPr id="100" name="Left Arrow 4"/>
          <p:cNvSpPr/>
          <p:nvPr/>
        </p:nvSpPr>
        <p:spPr>
          <a:xfrm>
            <a:off x="2362320" y="5181480"/>
            <a:ext cx="2895480" cy="304920"/>
          </a:xfrm>
          <a:prstGeom prst="leftArrow">
            <a:avLst>
              <a:gd name="adj1" fmla="val 50000"/>
              <a:gd name="adj2" fmla="val 49985"/>
            </a:avLst>
          </a:prstGeom>
          <a:solidFill>
            <a:srgbClr val="ff0000">
              <a:alpha val="46000"/>
            </a:srgbClr>
          </a:solidFill>
          <a:ln w="9360">
            <a:solidFill>
              <a:srgbClr val="000000"/>
            </a:solidFill>
            <a:round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71040" y="5680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acti: First Log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2"/>
          <p:cNvSpPr/>
          <p:nvPr/>
        </p:nvSpPr>
        <p:spPr>
          <a:xfrm>
            <a:off x="2325600" y="4772160"/>
            <a:ext cx="4386240" cy="10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irst time login use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User Name: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admi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assword: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admi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Picture 3" descr=""/>
          <p:cNvPicPr/>
          <p:nvPr/>
        </p:nvPicPr>
        <p:blipFill>
          <a:blip r:embed="rId1"/>
          <a:stretch/>
        </p:blipFill>
        <p:spPr>
          <a:xfrm>
            <a:off x="2136600" y="1538280"/>
            <a:ext cx="5099400" cy="295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568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acti: Password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2"/>
          <p:cNvSpPr/>
          <p:nvPr/>
        </p:nvSpPr>
        <p:spPr>
          <a:xfrm>
            <a:off x="1776240" y="4902120"/>
            <a:ext cx="6000840" cy="10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ow you must change the 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admin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password. Please use the workshop password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1717560" y="1546200"/>
            <a:ext cx="5005440" cy="323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568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d Devices: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6120" bIns="46800" anchor="t">
            <a:normAutofit/>
          </a:bodyPr>
          <a:p>
            <a:pPr marL="336600" indent="-336600">
              <a:lnSpc>
                <a:spcPct val="86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nagement -&gt; Devices -&gt; Ad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86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pecify device attribu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86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oose a device template and this will ask you for additional information about the devic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86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You can add additional templates when, or if, you wan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3" descr=""/>
          <p:cNvPicPr/>
          <p:nvPr/>
        </p:nvPicPr>
        <p:blipFill>
          <a:blip r:embed="rId1"/>
          <a:stretch/>
        </p:blipFill>
        <p:spPr>
          <a:xfrm>
            <a:off x="685800" y="4152960"/>
            <a:ext cx="7808760" cy="2019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77920" y="109440"/>
            <a:ext cx="84852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568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d Devices: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2" descr=""/>
          <p:cNvPicPr/>
          <p:nvPr/>
        </p:nvPicPr>
        <p:blipFill>
          <a:blip r:embed="rId1"/>
          <a:stretch/>
        </p:blipFill>
        <p:spPr>
          <a:xfrm>
            <a:off x="246240" y="806400"/>
            <a:ext cx="8596080" cy="5438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d Devices: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492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oose SNMP version 2 for this worksho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your own location you can use SNMP version 3 if your devices support th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NMP access is a security issu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Lucida Grande"/>
              <a:buChar char="-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sion 2 is not encryp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Lucida Grande"/>
              <a:buChar char="-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tch out for globally readable “public” commun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Lucida Grande"/>
              <a:buChar char="-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careful about who can access r/w commun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d Devices: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3" descr="cacti-associated-data-queries.png"/>
          <p:cNvPicPr/>
          <p:nvPr/>
        </p:nvPicPr>
        <p:blipFill>
          <a:blip r:embed="rId1"/>
          <a:stretch/>
        </p:blipFill>
        <p:spPr>
          <a:xfrm>
            <a:off x="274680" y="2611440"/>
            <a:ext cx="8640720" cy="356076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2"/>
          <p:cNvSpPr/>
          <p:nvPr/>
        </p:nvSpPr>
        <p:spPr>
          <a:xfrm>
            <a:off x="380880" y="1447920"/>
            <a:ext cx="8458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 marL="343080" indent="-343080">
              <a:lnSpc>
                <a:spcPct val="143000"/>
              </a:lnSpc>
              <a:spcBef>
                <a:spcPts val="799"/>
              </a:spcBef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e “Associated Data Queries” menu:</a:t>
            </a:r>
            <a:br>
              <a:rPr sz="24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By default Cacti does not use snmp to query a device. You must be sure to add thi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568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eate Graph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4880" bIns="46800" anchor="t">
            <a:normAutofit/>
          </a:bodyPr>
          <a:p>
            <a:pPr marL="336600" indent="-336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ose the “Create graphs for this host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 Graph Templates generally check the top box that choose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l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 available graphs to be display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s Cre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can change the default colors, but the predefined definitions generally work we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8224920" cy="12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568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eate Graphics: Step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2" descr=""/>
          <p:cNvPicPr/>
          <p:nvPr/>
        </p:nvPicPr>
        <p:blipFill>
          <a:blip r:embed="rId1"/>
          <a:stretch/>
        </p:blipFill>
        <p:spPr>
          <a:xfrm>
            <a:off x="198360" y="1325520"/>
            <a:ext cx="8596440" cy="479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8224920" cy="12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568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eate Graphics: Step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2" descr=""/>
          <p:cNvPicPr/>
          <p:nvPr/>
        </p:nvPicPr>
        <p:blipFill>
          <a:blip r:embed="rId1"/>
          <a:stretch/>
        </p:blipFill>
        <p:spPr>
          <a:xfrm>
            <a:off x="198360" y="1433520"/>
            <a:ext cx="8596440" cy="479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7383600" y="349200"/>
            <a:ext cx="1484280" cy="214308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cti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s RRDtool, PHP and store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 in MySQL. It supports the use of SNMP and graphics with MRT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acti is a complete frontend to RRDTool, it stores all of the necessary information to create graphs and populate them with data in a MySQL database. The frontend is completely PHP driven. Along with being able to maintain Graphs, Data Sources, and Round Robin Archives in a database, cacti handles the data gathering. There is also SNMP support for those used to creating traffic graphs with MRTG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568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ew the Graph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4880" bIns="46800" anchor="t">
            <a:normAutofit/>
          </a:bodyPr>
          <a:p>
            <a:pPr marL="336600" indent="-336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ce the new device in its proper location in your tree hierarch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ilding your display hierarchy is your decision. It might make sense to try drawing this out on paper fir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 Managem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Graph Tree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the Default Tree hierarchy (or, create one of your own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aphics Tre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757080" y="1887480"/>
            <a:ext cx="7701120" cy="85572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3"/>
          <p:cNvSpPr/>
          <p:nvPr/>
        </p:nvSpPr>
        <p:spPr>
          <a:xfrm>
            <a:off x="735120" y="1479600"/>
            <a:ext cx="7086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rst, press “Add” if you want a new graphing tre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722160" y="3116160"/>
            <a:ext cx="70866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, name your tree, choose the sorting order (the author likes Natural Sorting and press “create”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Picture 5" descr=""/>
          <p:cNvPicPr/>
          <p:nvPr/>
        </p:nvPicPr>
        <p:blipFill>
          <a:blip r:embed="rId2"/>
          <a:stretch/>
        </p:blipFill>
        <p:spPr>
          <a:xfrm>
            <a:off x="806400" y="3873600"/>
            <a:ext cx="7726320" cy="10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aphics Tre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2"/>
          <p:cNvSpPr/>
          <p:nvPr/>
        </p:nvSpPr>
        <p:spPr>
          <a:xfrm>
            <a:off x="735120" y="1444680"/>
            <a:ext cx="7086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rd, add devices to your new tre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3" descr=""/>
          <p:cNvPicPr/>
          <p:nvPr/>
        </p:nvPicPr>
        <p:blipFill>
          <a:blip r:embed="rId1"/>
          <a:stretch/>
        </p:blipFill>
        <p:spPr>
          <a:xfrm>
            <a:off x="806400" y="1836720"/>
            <a:ext cx="7037280" cy="179856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4"/>
          <p:cNvSpPr/>
          <p:nvPr/>
        </p:nvSpPr>
        <p:spPr>
          <a:xfrm>
            <a:off x="698400" y="3814920"/>
            <a:ext cx="77598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ce you click “Add” you can add “Headers” (separators), graphs or hosts. Now we'll add Hosts to our newly created graph tre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Picture 5" descr=""/>
          <p:cNvPicPr/>
          <p:nvPr/>
        </p:nvPicPr>
        <p:blipFill>
          <a:blip r:embed="rId2"/>
          <a:stretch/>
        </p:blipFill>
        <p:spPr>
          <a:xfrm>
            <a:off x="770040" y="4464000"/>
            <a:ext cx="7404120" cy="1690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318600"/>
            <a:ext cx="8224920" cy="104940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raphics Tree with 2 Devi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2" descr=""/>
          <p:cNvPicPr/>
          <p:nvPr/>
        </p:nvPicPr>
        <p:blipFill>
          <a:blip r:embed="rId1"/>
          <a:stretch/>
        </p:blipFill>
        <p:spPr>
          <a:xfrm>
            <a:off x="133200" y="1444680"/>
            <a:ext cx="8798040" cy="179208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3"/>
          <p:cNvSpPr/>
          <p:nvPr/>
        </p:nvSpPr>
        <p:spPr>
          <a:xfrm>
            <a:off x="228600" y="3505320"/>
            <a:ext cx="86868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r graphics tre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ju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fter the first two devices were added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 far, no graphics are displayed – the first graphics can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take up to 5 minutes to displa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cti graphs are stored on disk and updated using RRDToo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via the poller.php script, which, by default, is run every fiv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inutes using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r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Text Box 4"/>
          <p:cNvSpPr/>
          <p:nvPr/>
        </p:nvSpPr>
        <p:spPr>
          <a:xfrm>
            <a:off x="6019920" y="594360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much larger example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1708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 Example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2" descr=""/>
          <p:cNvPicPr/>
          <p:nvPr/>
        </p:nvPicPr>
        <p:blipFill>
          <a:blip r:embed="rId1"/>
          <a:stretch/>
        </p:blipFill>
        <p:spPr>
          <a:xfrm>
            <a:off x="1312920" y="987480"/>
            <a:ext cx="7250040" cy="519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568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8040" bIns="46800" anchor="t">
            <a:normAutofit fontScale="99000"/>
          </a:bodyPr>
          <a:p>
            <a:pPr marL="334440" indent="-31572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cti is very flexible due to its use of templa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440" indent="-31572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ce you understand the concepts behind RRDTool, then how Cacti works should be (more or less) intui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440" indent="-31572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visualization hierarchy of devices helps to organize and discover new device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440" indent="-31572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are very few to no statistics available about the performance o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cti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volunteers are welcome!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440" indent="-31572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not easy to do a rediscover of devic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440" indent="-31572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add lots of devices requires lots of time and effort. Software such as Netdot, Netdisco, IPPlan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PP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help – as well as local scripts that update the Cacti back-end MySQL database direct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568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4880" bIns="46800" anchor="t">
            <a:noAutofit/>
          </a:bodyPr>
          <a:p>
            <a:pPr marL="336600" indent="-336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cti Web Site: </a:t>
            </a:r>
            <a:br>
              <a:rPr sz="3200"/>
            </a:b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http://www.cacti.net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cti Discussion Group:</a:t>
            </a:r>
            <a:br>
              <a:rPr sz="3200"/>
            </a:b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http://forums.cacti.net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568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der Configuration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2640" bIns="46800" anchor="t">
            <a:normAutofit/>
          </a:bodyPr>
          <a:p>
            <a:pPr marL="336600" indent="-336600">
              <a:lnSpc>
                <a:spcPct val="93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ti uses MySQL to store configurations. In older Ubuntu versions it was necessary to manually create the cacti MySQL database and set the permiss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6600" indent="0">
              <a:lnSpc>
                <a:spcPct val="93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3"/>
          <p:cNvSpPr/>
          <p:nvPr/>
        </p:nvSpPr>
        <p:spPr>
          <a:xfrm>
            <a:off x="990720" y="4853160"/>
            <a:ext cx="6858000" cy="10076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$database_type = "mysql"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$database_default = "cacti"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$database_hostname = "localhost"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$database_username = "cactiuser"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$database_password = "cacti_pass"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$database_port = "3306"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914400" y="2546280"/>
            <a:ext cx="6781680" cy="1159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# mysqladmin --user=root create cacti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# mysql cacti &lt; cacti.sql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# mysql --user=root mysql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mysql&gt; GRANT ALL ON cacti.* TO cactiuser@localhost IDENTIFIED BY ‘cacti_pass';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mysql&gt; flush privileges;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Rectangle 5"/>
          <p:cNvSpPr/>
          <p:nvPr/>
        </p:nvSpPr>
        <p:spPr>
          <a:xfrm>
            <a:off x="533520" y="3886200"/>
            <a:ext cx="79246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6600" indent="-336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was, also, sometimes necessary to manually specify the cacti connection parameters in /etc/cacti/db.php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568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der Configuration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4880" bIns="46800" anchor="t">
            <a:normAutofit/>
          </a:bodyPr>
          <a:p>
            <a:pPr marL="336600" indent="-336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sure that there is a cron job that has been configured as well – Likely in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/etc/cron.d/cact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will be something lik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6600" indent="0">
              <a:lnSpc>
                <a:spcPct val="83000"/>
              </a:lnSpc>
              <a:spcBef>
                <a:spcPts val="3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6600" indent="0">
              <a:lnSpc>
                <a:spcPct val="83000"/>
              </a:lnSpc>
              <a:spcBef>
                <a:spcPts val="3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/5 * * * * www-data php /usr/share/cacti/site/poller.php &gt;/dev/null \ 2&gt;/var/log/cacti/poller-error.lo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660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not necessary with the Debian package in Ubuntu 8.10, and la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568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ing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cactid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Alternate Poller Co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26760"/>
            <a:ext cx="8229600" cy="16002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76680" bIns="46800" anchor="t">
            <a:normAutofit/>
          </a:bodyPr>
          <a:p>
            <a:pPr marL="343080" indent="0">
              <a:lnSpc>
                <a:spcPct val="83000"/>
              </a:lnSpc>
              <a:spcBef>
                <a:spcPts val="34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# tar xvzf cacti-cactid-0.8.6.tar.g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3000"/>
              </a:lnSpc>
              <a:spcBef>
                <a:spcPts val="34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# cd cactid-0.8.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3000"/>
              </a:lnSpc>
              <a:spcBef>
                <a:spcPts val="34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# ./config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3000"/>
              </a:lnSpc>
              <a:spcBef>
                <a:spcPts val="34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# mak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3000"/>
              </a:lnSpc>
              <a:spcBef>
                <a:spcPts val="34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# make inst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3"/>
          <p:cNvSpPr/>
          <p:nvPr/>
        </p:nvSpPr>
        <p:spPr>
          <a:xfrm>
            <a:off x="457200" y="3316320"/>
            <a:ext cx="8229600" cy="16002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# vi /usr/local/cactid/bin/cactid.con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B_Host         localhos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B_Database     cact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B_User         cactius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B_Pass         cacti_pas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B_Port         330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Text Box 4"/>
          <p:cNvSpPr/>
          <p:nvPr/>
        </p:nvSpPr>
        <p:spPr>
          <a:xfrm>
            <a:off x="496800" y="4929120"/>
            <a:ext cx="8229600" cy="11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 the Web interface go to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Courier New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nfiguration -&gt; Settings -&gt; Paths -&gt; Cactid Poller File Path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and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specify the location of cactid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Courier New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Go to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olle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and i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oller Typ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, selec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acti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568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Description of Cac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534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8040" bIns="46800" anchor="t">
            <a:normAutofit fontScale="97000"/>
          </a:bodyPr>
          <a:p>
            <a:pPr marL="461880" indent="-44316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cti is written as a group of PHP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1880" indent="-44316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key script is “poller.php”, which runs every 5 minutes (by default). It resides in /usr/share/cacti/si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1880" indent="-44316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work poller.php needs to be in /etc/cron.d/cacti like this:</a:t>
            </a:r>
            <a:br>
              <a:rPr sz="2400"/>
            </a:b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MAILTO=roo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6188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*/5 * * * * www-data php /usr/share/cacti/site/poller.php &gt;/dev/null 2&gt;/var/log/cacti/poller-error.lo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6188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61880" indent="-44316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Cacti uses RRDtool to create graphs for each device and data that is collected about that device. You can adjust all of this from within the Cacti web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1880" indent="-44316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The RRD data is stored in a MySQL database along with descriptions of each device that is monito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1880" indent="-44316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The RRD files are located in /var/lib/cacti/rr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568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28560"/>
            <a:ext cx="8229600" cy="52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9280" bIns="46800" anchor="t">
            <a:normAutofit/>
          </a:bodyPr>
          <a:p>
            <a:pPr marL="343080" indent="0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ou can measure Availability, Load, Errors and more all with histo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acti con view your router and switch interfaces and their traffic, including all error traffic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acti can measure drive capacity, CPU load (network h/w and servers) and much more. It can react to conditions and send notifications based on specified rang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lows you to use all the functionality of rrdgraph to define graphics and automate how they are display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lows you to organize information in hierarchical tree structur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ta 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ermits you to utilize all the functions of rrdcreate and rrdupdate including defining several sources of information for each RRD fi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568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vantages con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285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9280" bIns="46800" anchor="t">
            <a:normAutofit/>
          </a:bodyPr>
          <a:p>
            <a:pPr marL="343080" indent="0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ta Coll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upports SNMP including the use o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hp-snm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or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t-snm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a sources can be updated via SNMP o by defining scripts to do th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n optional component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acti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, implements SNMP routines in C with multi-threading. Important for very large installations, but not tested formal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mpl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You can create templates to reutilize graphics definitions, data and device sourc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You can manage users locally or via LDAP and you can assign granular levels of authorization by user or groups of us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318600"/>
            <a:ext cx="8224920" cy="10494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advanta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figuration of Interfaces is Tedi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first time you add an interfaces, add graphics for each interface and place these graphics correctly on a hierarchical menu requires considerable time and effor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’s very important that you keep your Cacti configuration up-to-date with your network. You must either assign someone to do this, or create appropriate scripts and data shares for this purpo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f you make a configuration error it can be tedious to correct i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, in reality, for continuous use or large installations it is likely that you will be using scripts and tools to automate the configuration of Cact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99520" y="274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568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stallation: Ubuntu Server 9.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1640" bIns="46800" anchor="t">
            <a:normAutofit/>
          </a:bodyPr>
          <a:p>
            <a:pPr lvl="1" marL="736560" indent="-27936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in RPM form and packages for Gentoo, Red Hat, Fedora, SuSE, FreeBSD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necessary to install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cti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eparately if you wish to use this for larger installations. Again, this code has not been formally measured for improved performa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Ubuntu/Debian…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83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# apt-get install cac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568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stallation: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503280" y="1735200"/>
            <a:ext cx="7966080" cy="3012840"/>
          </a:xfrm>
          <a:prstGeom prst="rect">
            <a:avLst/>
          </a:prstGeom>
          <a:ln w="0">
            <a:noFill/>
          </a:ln>
        </p:spPr>
      </p:pic>
      <p:sp>
        <p:nvSpPr>
          <p:cNvPr id="67" name="Text Box 3"/>
          <p:cNvSpPr/>
          <p:nvPr/>
        </p:nvSpPr>
        <p:spPr>
          <a:xfrm>
            <a:off x="685800" y="5257800"/>
            <a:ext cx="754380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the workshop passwor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5T01:01:17Z</dcterms:created>
  <dc:creator>cvicente</dc:creator>
  <dc:description/>
  <dc:language>en-US</dc:language>
  <cp:lastModifiedBy>Hervey Allen</cp:lastModifiedBy>
  <dcterms:modified xsi:type="dcterms:W3CDTF">2010-02-25T03:52:22Z</dcterms:modified>
  <cp:revision>212</cp:revision>
  <dc:subject/>
  <dc:title>Estadísticas de Red y Servidores con Cacti</dc:title>
</cp:coreProperties>
</file>