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33080" y="1006560"/>
            <a:ext cx="510084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37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96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628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96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628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3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4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5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6" marL="343080" indent="-343080">
              <a:lnSpc>
                <a:spcPct val="94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rypt.gen.nz/logsurfer/" TargetMode="External"/><Relationship Id="rId2" Type="http://schemas.openxmlformats.org/officeDocument/2006/relationships/hyperlink" Target="http://sial.org/howto/logging/swatch/" TargetMode="External"/><Relationship Id="rId3" Type="http://schemas.openxmlformats.org/officeDocument/2006/relationships/hyperlink" Target="http://www.occam.com/sa/CentralizedLogging2009.pdf" TargetMode="External"/><Relationship Id="rId4" Type="http://schemas.openxmlformats.org/officeDocument/2006/relationships/hyperlink" Target="http://ristov.users.sourceforge.net/slct/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39640" y="1552680"/>
            <a:ext cx="877248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10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Kuala Lumpur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6000"/>
              </a:lnSpc>
              <a:tabLst>
                <a:tab algn="l" pos="0"/>
                <a:tab algn="l" pos="428760"/>
                <a:tab algn="l" pos="663480"/>
                <a:tab algn="l" pos="11145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Log managem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60720" y="5040360"/>
            <a:ext cx="39592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SWATCH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 u="sng">
                <a:solidFill>
                  <a:srgbClr val="333333"/>
                </a:solidFill>
                <a:uFillTx/>
                <a:latin typeface="Lucida Sans Typewriter"/>
              </a:rPr>
              <a:t>S</a:t>
            </a: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imple Log </a:t>
            </a:r>
            <a:r>
              <a:rPr b="0" lang="da-DK" sz="3000" spc="-1" strike="noStrike" u="sng">
                <a:solidFill>
                  <a:srgbClr val="333333"/>
                </a:solidFill>
                <a:uFillTx/>
                <a:latin typeface="Lucida Sans Typewriter"/>
              </a:rPr>
              <a:t>Watch</a:t>
            </a: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Written in Perl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Monitors log files, looking for patterns (”regular expressions”) to match in the log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Perform a given action if the pattern is found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Sample confi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2208240"/>
            <a:ext cx="93600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ignore /things to ignore/</a:t>
            </a: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watchfor /NATIVE_VLAN_MISMATCH/</a:t>
            </a: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mail=root,subject=VLAN problem</a:t>
            </a: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threshold type=limit,count=1,seconds=3600</a:t>
            </a: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watchfor /CONFIG_I/</a:t>
            </a: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mail=root,subject=Router config</a:t>
            </a: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a-DK" sz="2400" spc="-1" strike="noStrike">
                <a:solidFill>
                  <a:srgbClr val="000000"/>
                </a:solidFill>
                <a:latin typeface="Courier New"/>
              </a:rPr>
              <a:t>threshold type=limit,count=1,seconds=3600</a:t>
            </a: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Referenc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http://www.loganalysis.org/  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Syslog NG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http://www.balabit.com/network-security/syslog-ng/</a:t>
            </a:r>
            <a:br>
              <a:rPr sz="2200"/>
            </a:b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Windows Event Log to Syslog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https://engineering.purdue.edu/ECN/Resources/Documents/UNIX/evtsys</a:t>
            </a:r>
            <a:br>
              <a:rPr sz="2200"/>
            </a:b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SWATCH log watch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http://swatch.sourceforge.net/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http://www.loganalysis.org/sections/signatures/log-swatch-skendrick.txt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http://www.loganalysis.org/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Lucida Sans Typewriter"/>
              </a:rPr>
              <a:t>http://sourceforge.net/docman/display_doc.php?docid=5332&amp;group_id=25401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Referenc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 u="sng">
                <a:solidFill>
                  <a:srgbClr val="ccccff"/>
                </a:solidFill>
                <a:uFillTx/>
                <a:latin typeface="Lucida Sans Typewriter"/>
                <a:hlinkClick r:id="rId1"/>
              </a:rPr>
              <a:t>http://www.crypt.gen.nz/logsurfer/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 u="sng">
                <a:solidFill>
                  <a:srgbClr val="ccccff"/>
                </a:solidFill>
                <a:uFillTx/>
                <a:latin typeface="Lucida Sans Typewriter"/>
                <a:hlinkClick r:id="rId2"/>
              </a:rPr>
              <a:t>http://sial.org/howto/logging/swatch/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 u="sng">
                <a:solidFill>
                  <a:srgbClr val="ccccff"/>
                </a:solidFill>
                <a:uFillTx/>
                <a:latin typeface="Lucida Sans Typewriter"/>
                <a:hlinkClick r:id="rId3"/>
              </a:rPr>
              <a:t>http://www.occam.com/sa/CentralizedLogging2009.pdf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200" spc="-1" strike="noStrike" u="sng">
                <a:solidFill>
                  <a:srgbClr val="ccccff"/>
                </a:solidFill>
                <a:uFillTx/>
                <a:latin typeface="Lucida Sans Typewriter"/>
                <a:hlinkClick r:id="rId4"/>
              </a:rPr>
              <a:t>http://ristov.users.sourceforge.net/slct/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Questions </a:t>
            </a: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	</a:t>
            </a: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0000" y="1963440"/>
            <a:ext cx="93567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6000" spc="-1" strike="noStrike">
                <a:solidFill>
                  <a:srgbClr val="cccccc"/>
                </a:solidFill>
                <a:latin typeface="Utopia"/>
              </a:rPr>
              <a:t>?</a:t>
            </a:r>
            <a:endParaRPr b="0" lang="en-US" sz="60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Log management and monitor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What is log management and monitoring ?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It's about keeping your logs in a safe place, putting them where you can easily inspect them with tool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Keep an eye on your log fil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They tell you something important...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Lots of things happen, and someone needs to keep an eye on them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Not really practictal to do it by hand!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Log management and monitor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On your routers and switches</a:t>
            </a:r>
            <a:br>
              <a:rPr sz="3000"/>
            </a:b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0">
              <a:lnSpc>
                <a:spcPct val="9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00ae00"/>
                </a:solidFill>
                <a:latin typeface="Lucida Sans Typewriter"/>
              </a:rPr>
              <a:t>Sep  1 04:40:11.788 INDIA: %SEC-6-IPACCESSLOGP: list 100 denied tcp 79.210.84.154(2167) -&gt; 169.223.192.85(6662), 1 packet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0">
              <a:lnSpc>
                <a:spcPct val="9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00ae00"/>
                </a:solidFill>
                <a:latin typeface="Lucida Sans Typewriter"/>
              </a:rPr>
              <a:t>Sep  1 04:42:35.270 INDIA: %SYS-5-CONFIG_I: Configured from console by pr on vty0 (203.200.80.75)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0">
              <a:lnSpc>
                <a:spcPct val="9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00ae00"/>
                </a:solidFill>
                <a:latin typeface="Lucida Sans Typewriter"/>
              </a:rPr>
              <a:t>%CI-3-TEMP: Overtemperature warning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0">
              <a:lnSpc>
                <a:spcPct val="9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00ae00"/>
                </a:solidFill>
                <a:latin typeface="Lucida Sans Typewriter"/>
              </a:rPr>
              <a:t>Mar  1 00:05:51.443: %LINK-3-UPDOWN: Interface Serial1, changed state to down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On your servers as well</a:t>
            </a:r>
            <a:br>
              <a:rPr sz="3000"/>
            </a:b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0">
              <a:lnSpc>
                <a:spcPct val="9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00ae00"/>
                </a:solidFill>
                <a:latin typeface="Lucida Sans Typewriter"/>
              </a:rPr>
              <a:t>Aug 31 17:53:12 ubuntu nagios3: Caught SIGTERM, shutting down...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0">
              <a:lnSpc>
                <a:spcPct val="9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00ae00"/>
                </a:solidFill>
                <a:latin typeface="Lucida Sans Typewriter"/>
              </a:rPr>
              <a:t>Aug 31 19:19:36 ubuntu sshd[16404]: Failed password for root from 169.223.1.130 port 2039 ssh2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Log managem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First, need to centralize and consolidate log fil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Log all messages from routers, switches and servers to a single machine – a logserv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All logging from network equipment and UNIX servers is done using syslog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Windows can be configured to use syslog as well, with some tool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Log locally, but also to the central serv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Centralized logg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38120" y="2160720"/>
            <a:ext cx="1736640" cy="1617480"/>
            <a:chOff x="438120" y="2160720"/>
            <a:chExt cx="1736640" cy="1617480"/>
          </a:xfrm>
        </p:grpSpPr>
        <p:sp>
          <p:nvSpPr>
            <p:cNvPr id="57" name=""/>
            <p:cNvSpPr/>
            <p:nvPr/>
          </p:nvSpPr>
          <p:spPr>
            <a:xfrm>
              <a:off x="1260360" y="3168720"/>
              <a:ext cx="720720" cy="179280"/>
            </a:xfrm>
            <a:prstGeom prst="roundRect">
              <a:avLst>
                <a:gd name="adj" fmla="val 889"/>
              </a:avLst>
            </a:prstGeom>
            <a:solidFill>
              <a:srgbClr val="99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2160720"/>
              <a:ext cx="720720" cy="539640"/>
            </a:xfrm>
            <a:prstGeom prst="roundRect">
              <a:avLst>
                <a:gd name="adj" fmla="val 292"/>
              </a:avLst>
            </a:pr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60360" y="3060720"/>
              <a:ext cx="720720" cy="1792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60360" y="3276720"/>
              <a:ext cx="720720" cy="1792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6240" y="3497400"/>
              <a:ext cx="10285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9480" bIns="450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a-DK" sz="1500" spc="-1" strike="noStrike">
                  <a:solidFill>
                    <a:srgbClr val="000000"/>
                  </a:solidFill>
                  <a:latin typeface="Arial"/>
                </a:rPr>
                <a:t>Local disk</a:t>
              </a:r>
              <a:endParaRPr b="0" lang="en-US" sz="15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60360" y="2340000"/>
              <a:ext cx="7095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9480" bIns="450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a-DK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0720" y="2519280"/>
              <a:ext cx="360360" cy="720720"/>
            </a:xfrm>
            <a:custGeom>
              <a:avLst/>
              <a:gdLst/>
              <a:ahLst/>
              <a:rect l="l" t="t" r="r" b="b"/>
              <a:pathLst>
                <a:path w="1001" h="2001">
                  <a:moveTo>
                    <a:pt x="1000" y="0"/>
                  </a:moveTo>
                  <a:lnTo>
                    <a:pt x="0" y="0"/>
                  </a:lnTo>
                  <a:lnTo>
                    <a:pt x="0" y="2000"/>
                  </a:lnTo>
                  <a:lnTo>
                    <a:pt x="1000" y="2000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218160" y="2727720"/>
              <a:ext cx="7207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9480" bIns="450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a-DK" sz="1500" spc="-1" strike="noStrike">
                  <a:solidFill>
                    <a:srgbClr val="000000"/>
                  </a:solidFill>
                  <a:latin typeface="Arial"/>
                </a:rPr>
                <a:t>syslog</a:t>
              </a:r>
              <a:endParaRPr b="0" lang="en-US" sz="1500" spc="-1" strike="noStrike">
                <a:solidFill>
                  <a:srgbClr val="000000"/>
                </a:solidFill>
                <a:latin typeface="Utopia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887640" y="2160720"/>
            <a:ext cx="720720" cy="539640"/>
          </a:xfrm>
          <a:prstGeom prst="roundRect">
            <a:avLst>
              <a:gd name="adj" fmla="val 292"/>
            </a:avLst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6" name=""/>
          <p:cNvSpPr/>
          <p:nvPr/>
        </p:nvSpPr>
        <p:spPr>
          <a:xfrm>
            <a:off x="3887640" y="2340000"/>
            <a:ext cx="677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48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2160720"/>
            <a:ext cx="720720" cy="539640"/>
          </a:xfrm>
          <a:prstGeom prst="roundRect">
            <a:avLst>
              <a:gd name="adj" fmla="val 292"/>
            </a:avLst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2340000"/>
            <a:ext cx="7095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48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9" name=""/>
          <p:cNvSpPr/>
          <p:nvPr/>
        </p:nvSpPr>
        <p:spPr>
          <a:xfrm>
            <a:off x="4243320" y="5688000"/>
            <a:ext cx="720720" cy="612720"/>
          </a:xfrm>
          <a:prstGeom prst="roundRect">
            <a:avLst>
              <a:gd name="adj" fmla="val 255"/>
            </a:avLst>
          </a:prstGeom>
          <a:solidFill>
            <a:srgbClr val="99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0" name=""/>
          <p:cNvSpPr/>
          <p:nvPr/>
        </p:nvSpPr>
        <p:spPr>
          <a:xfrm>
            <a:off x="4243320" y="4500720"/>
            <a:ext cx="720720" cy="539640"/>
          </a:xfrm>
          <a:prstGeom prst="roundRect">
            <a:avLst>
              <a:gd name="adj" fmla="val 292"/>
            </a:avLst>
          </a:prstGeom>
          <a:solidFill>
            <a:srgbClr val="99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5580000"/>
            <a:ext cx="720720" cy="1792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2" name=""/>
          <p:cNvSpPr/>
          <p:nvPr/>
        </p:nvSpPr>
        <p:spPr>
          <a:xfrm>
            <a:off x="4243320" y="6227640"/>
            <a:ext cx="720720" cy="179640"/>
          </a:xfrm>
          <a:prstGeom prst="ellipse">
            <a:avLst/>
          </a:prstGeom>
          <a:solidFill>
            <a:srgbClr val="999999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3" name=""/>
          <p:cNvSpPr/>
          <p:nvPr/>
        </p:nvSpPr>
        <p:spPr>
          <a:xfrm>
            <a:off x="3959280" y="6443640"/>
            <a:ext cx="144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48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Syslog storage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4" name=""/>
          <p:cNvSpPr/>
          <p:nvPr/>
        </p:nvSpPr>
        <p:spPr>
          <a:xfrm>
            <a:off x="4299120" y="4557600"/>
            <a:ext cx="7524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48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Syslog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5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5" name=""/>
          <p:cNvSpPr/>
          <p:nvPr/>
        </p:nvSpPr>
        <p:spPr>
          <a:xfrm>
            <a:off x="4680000" y="5040360"/>
            <a:ext cx="1440" cy="53964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77840" y="2808360"/>
            <a:ext cx="2379960" cy="169236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7" name=""/>
          <p:cNvSpPr/>
          <p:nvPr/>
        </p:nvSpPr>
        <p:spPr>
          <a:xfrm>
            <a:off x="4248000" y="2843280"/>
            <a:ext cx="252720" cy="165564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2879640"/>
            <a:ext cx="2303280" cy="161928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Configuring centralized logg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Cisco equipmen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Minimum: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8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logging ip.of.log.host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UNIX hos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Edit /etc/syslog.conf, and add:</a:t>
            </a:r>
            <a:br>
              <a:rPr sz="2600"/>
            </a:b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0">
              <a:lnSpc>
                <a:spcPct val="8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00ae00"/>
                </a:solidFill>
                <a:latin typeface="Courier New"/>
              </a:rPr>
              <a:t>*.*</a:t>
            </a:r>
            <a:r>
              <a:rPr b="0" lang="da-DK" sz="2600" spc="-1" strike="noStrike">
                <a:solidFill>
                  <a:srgbClr val="00ae00"/>
                </a:solidFill>
                <a:latin typeface="Courier New"/>
              </a:rPr>
              <a:t>	</a:t>
            </a:r>
            <a:r>
              <a:rPr b="0" lang="da-DK" sz="2600" spc="-1" strike="noStrike">
                <a:solidFill>
                  <a:srgbClr val="00ae00"/>
                </a:solidFill>
                <a:latin typeface="Courier New"/>
              </a:rPr>
              <a:t>	</a:t>
            </a:r>
            <a:r>
              <a:rPr b="0" lang="da-DK" sz="2600" spc="-1" strike="noStrike">
                <a:solidFill>
                  <a:srgbClr val="00ae00"/>
                </a:solidFill>
                <a:latin typeface="Courier New"/>
              </a:rPr>
              <a:t>	</a:t>
            </a:r>
            <a:r>
              <a:rPr b="0" lang="da-DK" sz="2600" spc="-1" strike="noStrike">
                <a:solidFill>
                  <a:srgbClr val="00ae00"/>
                </a:solidFill>
                <a:latin typeface="Courier New"/>
              </a:rPr>
              <a:t>	</a:t>
            </a:r>
            <a:r>
              <a:rPr b="0" lang="da-DK" sz="2600" spc="-1" strike="noStrike">
                <a:solidFill>
                  <a:srgbClr val="00ae00"/>
                </a:solidFill>
                <a:latin typeface="Courier New"/>
              </a:rPr>
              <a:t>@ip.of.log.host</a:t>
            </a:r>
            <a:br>
              <a:rPr sz="2600"/>
            </a:b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Restart syslogd</a:t>
            </a:r>
            <a:br>
              <a:rPr sz="2600"/>
            </a:b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Other equipments have similar option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Options to control </a:t>
            </a:r>
            <a:r>
              <a:rPr b="0" lang="da-DK" sz="2600" spc="-1" strike="noStrike">
                <a:solidFill>
                  <a:srgbClr val="ff3366"/>
                </a:solidFill>
                <a:latin typeface="Lucida Sans Typewriter"/>
              </a:rPr>
              <a:t>facility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 and </a:t>
            </a:r>
            <a:r>
              <a:rPr b="0" lang="da-DK" sz="2600" spc="-1" strike="noStrike">
                <a:solidFill>
                  <a:srgbClr val="ff3366"/>
                </a:solidFill>
                <a:latin typeface="Lucida Sans Typewriter"/>
              </a:rPr>
              <a:t>level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Receiving the messag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000" y="1711440"/>
            <a:ext cx="9356760" cy="58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8000"/>
          </a:bodyPr>
          <a:p>
            <a:pPr marL="418320" indent="-31572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Identify the facility that the SENDING host or device will send their message on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18320" indent="-31572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Reconfigure syslogd to listen to the network (on Ubuntu/Debian: add ”-r” to /etc/defaults/syslog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18320" indent="-31572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Add an entry to syslogd indicating where to write messages:</a:t>
            </a:r>
            <a:br>
              <a:rPr sz="3000"/>
            </a:br>
            <a:r>
              <a:rPr b="0" lang="da-DK" sz="3000" spc="-1" strike="noStrike">
                <a:solidFill>
                  <a:srgbClr val="00ae00"/>
                </a:solidFill>
                <a:latin typeface="Lucida Sans Typewriter"/>
              </a:rPr>
              <a:t>	</a:t>
            </a:r>
            <a:r>
              <a:rPr b="0" lang="da-DK" sz="3000" spc="-1" strike="noStrike">
                <a:solidFill>
                  <a:srgbClr val="00ae00"/>
                </a:solidFill>
                <a:latin typeface="Courier New"/>
              </a:rPr>
              <a:t>local7.*</a:t>
            </a:r>
            <a:r>
              <a:rPr b="0" lang="da-DK" sz="3000" spc="-1" strike="noStrike">
                <a:solidFill>
                  <a:srgbClr val="00ae00"/>
                </a:solidFill>
                <a:latin typeface="Courier New"/>
              </a:rPr>
              <a:t>	</a:t>
            </a:r>
            <a:r>
              <a:rPr b="0" lang="da-DK" sz="3000" spc="-1" strike="noStrike">
                <a:solidFill>
                  <a:srgbClr val="00ae00"/>
                </a:solidFill>
                <a:latin typeface="Courier New"/>
              </a:rPr>
              <a:t>	</a:t>
            </a:r>
            <a:r>
              <a:rPr b="0" lang="da-DK" sz="3000" spc="-1" strike="noStrike">
                <a:solidFill>
                  <a:srgbClr val="00ae00"/>
                </a:solidFill>
                <a:latin typeface="Courier New"/>
              </a:rPr>
              <a:t>	</a:t>
            </a:r>
            <a:r>
              <a:rPr b="0" lang="da-DK" sz="3000" spc="-1" strike="noStrike">
                <a:solidFill>
                  <a:srgbClr val="00ae00"/>
                </a:solidFill>
                <a:latin typeface="Courier New"/>
              </a:rPr>
              <a:t>	</a:t>
            </a:r>
            <a:r>
              <a:rPr b="0" lang="da-DK" sz="3000" spc="-1" strike="noStrike">
                <a:solidFill>
                  <a:srgbClr val="00ae00"/>
                </a:solidFill>
                <a:latin typeface="Courier New"/>
              </a:rPr>
              <a:t>/var/log/router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18320" indent="-31572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Create the file:</a:t>
            </a:r>
            <a:br>
              <a:rPr sz="3000"/>
            </a:br>
            <a:r>
              <a:rPr b="0" lang="da-DK" sz="3000" spc="-1" strike="noStrike">
                <a:solidFill>
                  <a:srgbClr val="00ae00"/>
                </a:solidFill>
                <a:latin typeface="Courier New"/>
              </a:rPr>
              <a:t>touch /var/log/router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18320" indent="-31572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Restart syslogd</a:t>
            </a:r>
            <a:br>
              <a:rPr sz="3000"/>
            </a:br>
            <a:r>
              <a:rPr b="0" lang="da-DK" sz="3000" spc="-1" strike="noStrike">
                <a:solidFill>
                  <a:srgbClr val="00ae00"/>
                </a:solidFill>
                <a:latin typeface="Courier New"/>
              </a:rPr>
              <a:t>/etc/init.d/sysklogd restar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Syslog basic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3000"/>
          </a:bodyPr>
          <a:p>
            <a:pPr marL="396720" indent="-29952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UDP protocol, port 514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396720" indent="-29952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Syslog messages have two attributes (other than the message itself)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396720" indent="0">
              <a:lnSpc>
                <a:spcPct val="94000"/>
              </a:lnSpc>
              <a:spcBef>
                <a:spcPts val="7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Facility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Level</a:t>
            </a:r>
            <a:br>
              <a:rPr sz="2400"/>
            </a:b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 Auth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Security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Emergency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(0)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 Authpriv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User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Alert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(1)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 Console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Syslog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Critical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(2)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 Cron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UUCP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Error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(3)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 Daemon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Mail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Warning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(4)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 Ftp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Ntp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Notice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(5)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 Kern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News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Info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(6)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 Lpr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Debug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(7)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 Local0 ...Local7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Sorting log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0000" y="1782720"/>
            <a:ext cx="935676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Using </a:t>
            </a:r>
            <a:r>
              <a:rPr b="0" lang="da-DK" sz="3000" spc="-1" strike="noStrike">
                <a:solidFill>
                  <a:srgbClr val="ff3366"/>
                </a:solidFill>
                <a:latin typeface="Lucida Sans Typewriter"/>
              </a:rPr>
              <a:t>facility</a:t>
            </a: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 and </a:t>
            </a:r>
            <a:r>
              <a:rPr b="0" lang="da-DK" sz="3000" spc="-1" strike="noStrike">
                <a:solidFill>
                  <a:srgbClr val="ff3366"/>
                </a:solidFill>
                <a:latin typeface="Lucida Sans Typewriter"/>
              </a:rPr>
              <a:t>level</a:t>
            </a: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, sort by category into different fil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With tools like syslog-ng, sort by host, date, ... automatically into different directori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Grep your way through the logs.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Lucida Sans Typewriter"/>
              </a:rPr>
              <a:t>Use standard UNIX tools to sort, and eliminate, things you want to filter out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0">
              <a:lnSpc>
                <a:spcPct val="8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00ae00"/>
                </a:solidFill>
                <a:latin typeface="Courier New"/>
              </a:rPr>
              <a:t>egrep -v '(list 100 denied|logging rate-limited)' mylogfile</a:t>
            </a: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4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Lucida Sans Typewriter"/>
              </a:rPr>
              <a:t>Is there a way to do this automatically ?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7:29:28Z</dcterms:created>
  <dc:creator/>
  <dc:description/>
  <dc:language>en-US</dc:language>
  <cp:lastModifiedBy>Phil Regnauld</cp:lastModifiedBy>
  <cp:lastPrinted>2007-08-28T07:32:47Z</cp:lastPrinted>
  <dcterms:modified xsi:type="dcterms:W3CDTF">2010-02-26T03:09:19Z</dcterms:modified>
  <cp:revision>99</cp:revision>
  <dc:subject/>
  <dc:title>    Track E0 AfNOG workshop April 23-27 2007 Abuja, Nigeria    </dc:title>
</cp:coreProperties>
</file>