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EE412-1E66-4B6B-8A57-F4832903BA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84D8B-E34C-48B9-8F71-51128F7C7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B8750-0C78-447D-92C8-9373EEFD1C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16939-591A-449E-96CD-3153CCD811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E014E-150A-4242-B45D-E5A3859BA1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277F4-3B61-4C60-9EDA-473B92ED07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04BC0-44A7-4469-A1E2-0C6A1EA3F3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176480" y="914400"/>
            <a:ext cx="450504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6062D-3C1C-4751-93B1-3FDB90C67D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F52B9-82A2-458B-8108-4D991E711F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8E0BF-2EED-4430-99FC-870CD5218C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BE528-399F-448C-9B84-ED70E309BC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A5088-E103-47AE-8B86-28061AA2B0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07F98-6ACF-48D3-890F-BE368D4DE0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56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68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56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68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6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56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68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4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56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168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14EA2-C684-47CA-9553-7C59C6A9F4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5B28-B837-4D75-A497-27E392D577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F683-FF02-4CBB-9BF3-A4473BF3CF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C011-1A81-4452-A13E-D7DD222363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653B-AC7A-4933-B66B-5026912DFC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6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7120-EACE-40BB-B1BD-153261CD19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F70C-EE6B-41FE-A294-BF0D547306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99D9-0262-4DD8-9D99-157068A665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7339-59B6-4434-BBD6-FACBD8DB9D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FD823-6BF2-4505-B0AE-C00296D58F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494B-B84B-4EB3-9B67-704ED02A4E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656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16840" y="140328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44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656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16840" y="4134600"/>
            <a:ext cx="27151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D9D4-034F-4C5B-98EE-2C848B31E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6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35520" y="413460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5520" y="1403280"/>
            <a:ext cx="4114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4134600"/>
            <a:ext cx="8432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5"/>
          <p:cNvSpPr/>
          <p:nvPr/>
        </p:nvSpPr>
        <p:spPr>
          <a:xfrm>
            <a:off x="7773840" y="6642000"/>
            <a:ext cx="137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953735"/>
                </a:solidFill>
                <a:latin typeface="Arial"/>
              </a:rPr>
              <a:t>nsrc@apricot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5"/>
          <p:cNvSpPr/>
          <p:nvPr/>
        </p:nvSpPr>
        <p:spPr>
          <a:xfrm>
            <a:off x="7773840" y="6642000"/>
            <a:ext cx="137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953735"/>
                </a:solidFill>
                <a:latin typeface="Arial"/>
              </a:rPr>
              <a:t>nsrc@apricot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PPslide5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nsrc.jpg"/>
          <p:cNvPicPr/>
          <p:nvPr/>
        </p:nvPicPr>
        <p:blipFill>
          <a:blip r:embed="rId3"/>
          <a:stretch/>
        </p:blipFill>
        <p:spPr>
          <a:xfrm>
            <a:off x="274680" y="652320"/>
            <a:ext cx="3859200" cy="1914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pricot-2010-logo.png"/>
          <p:cNvPicPr/>
          <p:nvPr/>
        </p:nvPicPr>
        <p:blipFill>
          <a:blip r:embed="rId4"/>
          <a:stretch/>
        </p:blipFill>
        <p:spPr>
          <a:xfrm>
            <a:off x="4668840" y="658800"/>
            <a:ext cx="3998880" cy="1871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7773840" y="6642000"/>
            <a:ext cx="137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953735"/>
                </a:solidFill>
                <a:latin typeface="Arial"/>
              </a:rPr>
              <a:t>nsrc@apricot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68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14440" y="1403280"/>
            <a:ext cx="8432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1"/>
          </p:nvPr>
        </p:nvSpPr>
        <p:spPr>
          <a:xfrm>
            <a:off x="8457840" y="6324480"/>
            <a:ext cx="531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C8178-29B6-4277-B1A4-EA1CABCF63BB}" type="slidenum"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fld id="{B692A538-4242-4488-B955-51C75D197B52}" type="slidenum"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951000"/>
            <a:ext cx="7772400" cy="1469880"/>
          </a:xfrm>
          <a:prstGeom prst="rect">
            <a:avLst/>
          </a:prstGeom>
          <a:solidFill>
            <a:srgbClr val="ffffff">
              <a:alpha val="25000"/>
            </a:srgbClr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isco Configuration El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2404800"/>
            <a:ext cx="640080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RICOT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ala Lumpur, Malay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432640" cy="54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 config mode, enable logging to your NOC machine (X is your network)</a:t>
            </a:r>
            <a:br>
              <a:rPr sz="3200"/>
            </a:br>
            <a:br>
              <a:rPr sz="3200"/>
            </a:br>
            <a:r>
              <a:rPr b="0" lang="en-AU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rtr(config)#</a:t>
            </a:r>
            <a:r>
              <a:rPr b="0" lang="en-AU" sz="2800" spc="-1" strike="noStrike">
                <a:solidFill>
                  <a:srgbClr val="000000"/>
                </a:solidFill>
                <a:latin typeface="Courier New"/>
              </a:rPr>
              <a:t>logging 192.168.X.1</a:t>
            </a:r>
            <a:br>
              <a:rPr sz="2800"/>
            </a:br>
            <a:r>
              <a:rPr b="0" lang="en-AU" sz="2800" spc="-1" strike="noStrike">
                <a:solidFill>
                  <a:srgbClr val="0000ff"/>
                </a:solidFill>
                <a:latin typeface="Courier New"/>
              </a:rPr>
              <a:t>rtr(config)#</a:t>
            </a:r>
            <a:r>
              <a:rPr b="0" lang="en-AU" sz="2800" spc="-1" strike="noStrike">
                <a:solidFill>
                  <a:srgbClr val="000000"/>
                </a:solidFill>
                <a:latin typeface="Courier New"/>
              </a:rPr>
              <a:t>logging facility local5</a:t>
            </a:r>
            <a:br>
              <a:rPr sz="2800"/>
            </a:br>
            <a:r>
              <a:rPr b="0" lang="en-AU" sz="2800" spc="-1" strike="noStrike">
                <a:solidFill>
                  <a:srgbClr val="0000ff"/>
                </a:solidFill>
                <a:latin typeface="Courier New"/>
              </a:rPr>
              <a:t>rtr(config)#</a:t>
            </a:r>
            <a:r>
              <a:rPr b="0" lang="en-AU" sz="2800" spc="-1" strike="noStrike">
                <a:solidFill>
                  <a:srgbClr val="000000"/>
                </a:solidFill>
                <a:latin typeface="Courier New"/>
              </a:rPr>
              <a:t>logging trap debugging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67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lo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432640" cy="54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 config mod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0" lang="en-A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snmp-server community xxxxxxxxx RW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snmp-server community </a:t>
            </a:r>
            <a:r>
              <a:rPr b="1" i="1" lang="en-A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en-A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O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snmp-server location KL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snmp-server enable traps config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snmp-server enable traps envmon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snmp-server enable traps config-copy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snmp-server enable traps syslog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snmp-server host 169.223.142.x </a:t>
            </a:r>
            <a:r>
              <a:rPr b="1" i="1" lang="en-A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71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M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432640" cy="54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isco Discovery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nabled by default nowadays in current IOS ver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therwise, enable with ”cdp enable” or ”cdp run” in configure mode on your ro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cpdump and tools like cdpr will show you CDP annou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eck neighbor announcement with:</a:t>
            </a:r>
            <a:br>
              <a:rPr sz="3200"/>
            </a:b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ff"/>
                </a:solidFill>
                <a:latin typeface="Courier New"/>
                <a:ea typeface="Courier New"/>
              </a:rPr>
              <a:t>rtr&gt;</a:t>
            </a:r>
            <a:r>
              <a:rPr b="0" lang="en-A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 cdp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75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432640" cy="546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79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stions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34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vervie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432640" cy="5460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7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c things that we need to make sure are configured on a Cisco router (and switch) to do proper network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Bef>
                <a:spcPts val="7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pply to other network equipment manufacturers of course, and to servers and work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432640" cy="54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Hostname: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ostname of the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SSH: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nabl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cur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DNS: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main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m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NTP: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ime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twork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me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otoc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Syslog: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Sys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m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SNMP: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NMP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SNMP traps: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ere to send tr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DP: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sco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scovery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39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ment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Title 1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42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he rout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43264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3161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h user@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ts val="3161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in “user mode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tr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ts val="3161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’re user has the privileges, go to “privileged mode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tr&gt;enable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ight need pw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tr#conf 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tr(config)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ts val="3161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n configuration comm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ts val="3161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t and save/build your new configur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tr(config)#exi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tr#wr 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432640" cy="54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eferably we use the FQDN (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lly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alified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main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m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 config mode on the router</a:t>
            </a:r>
            <a:br>
              <a:rPr sz="3200"/>
            </a:br>
            <a:br>
              <a:rPr sz="3200"/>
            </a:br>
            <a:r>
              <a:rPr b="0" lang="en-A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tr(config)#</a:t>
            </a:r>
            <a:r>
              <a:rPr b="0" lang="en-A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stname </a:t>
            </a:r>
            <a:r>
              <a:rPr b="0" i="1" lang="en-A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et-</a:t>
            </a:r>
            <a:r>
              <a:rPr b="0" lang="en-A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w.XYZ.domain.nam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3200"/>
            </a:br>
            <a:r>
              <a:rPr b="0" lang="en-A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tr(config)#</a:t>
            </a:r>
            <a:r>
              <a:rPr b="0" lang="en-A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stname </a:t>
            </a:r>
            <a:r>
              <a:rPr b="0" i="1" lang="en-A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et-</a:t>
            </a:r>
            <a:r>
              <a:rPr b="0" lang="en-A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-XYZ.domain.nam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47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tnam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432640" cy="54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 config mode on the router:</a:t>
            </a:r>
            <a:br>
              <a:rPr sz="32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Courier New"/>
              </a:rPr>
              <a:t>ip domain-name .mgmt.conference.apricot.net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Courier New"/>
              </a:rPr>
              <a:t>ip name-server 169.223.14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51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NS configura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616960" cy="54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 config mode: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ourier New"/>
              </a:rPr>
              <a:t>ntp server pool.ntp.org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ourier New"/>
              </a:rPr>
              <a:t>clock timezone EES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f needed: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ourier New"/>
              </a:rPr>
              <a:t>clock summer-time XXX recurring \ last Sun Mar 2:00 last Sun Oct \ 3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Verify:</a:t>
            </a:r>
            <a:br>
              <a:rPr sz="3200"/>
            </a:br>
            <a:r>
              <a:rPr b="0" lang="en-AU" sz="3200" spc="-1" strike="noStrike">
                <a:solidFill>
                  <a:srgbClr val="0000ff"/>
                </a:solidFill>
                <a:latin typeface="Courier New"/>
              </a:rPr>
              <a:t>rtr&gt;</a:t>
            </a:r>
            <a:r>
              <a:rPr b="0" lang="en-AU" sz="3200" spc="-1" strike="noStrike">
                <a:solidFill>
                  <a:srgbClr val="000000"/>
                </a:solidFill>
                <a:latin typeface="Courier New"/>
              </a:rPr>
              <a:t>show clock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55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TP + time configura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432640" cy="54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nly crypto version of IOS/CatOS have support for SSH – there are export restrictions...  In config mode: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urier New"/>
              </a:rPr>
              <a:t>rtr#aa new-model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urier New"/>
              </a:rPr>
              <a:t>rtr#crypto key generate rsa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urier New"/>
              </a:rPr>
              <a:t>rtr#</a:t>
            </a:r>
            <a:r>
              <a:rPr b="0" lang="en-AU" sz="3000" spc="-1" strike="noStrike">
                <a:solidFill>
                  <a:srgbClr val="000000"/>
                </a:solidFill>
                <a:latin typeface="Courier New"/>
              </a:rPr>
              <a:t>username inst secret 0 xxxxx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bove is required to be allowed to enable SSH.  Verify creation with: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Lucida Sans Typewriter Regular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urier New"/>
              </a:rPr>
              <a:t>sh crypto key mypubkey  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 at least 768 bits - OpenSSH require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59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27040" y="1339560"/>
            <a:ext cx="8432640" cy="54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Enforce ssh (disabling telnet) on vty lines</a:t>
            </a:r>
            <a:br>
              <a:rPr sz="3200"/>
            </a:br>
            <a:r>
              <a:rPr b="0" lang="en-AU" sz="3200" spc="-1" strike="noStrike">
                <a:solidFill>
                  <a:srgbClr val="0000ff"/>
                </a:solidFill>
                <a:latin typeface="Courier New"/>
                <a:ea typeface="Courier New"/>
              </a:rPr>
              <a:t>rtr#</a:t>
            </a:r>
            <a:r>
              <a:rPr b="0" lang="en-AU" sz="3200" spc="-1" strike="noStrike">
                <a:solidFill>
                  <a:srgbClr val="000000"/>
                </a:solidFill>
                <a:latin typeface="Courier New"/>
              </a:rPr>
              <a:t>conf t</a:t>
            </a:r>
            <a:br>
              <a:rPr sz="3200"/>
            </a:br>
            <a:r>
              <a:rPr b="0" lang="en-AU" sz="3200" spc="-1" strike="noStrike">
                <a:solidFill>
                  <a:srgbClr val="0000ff"/>
                </a:solidFill>
                <a:latin typeface="Courier New"/>
                <a:ea typeface="Courier New"/>
              </a:rPr>
              <a:t>rtr(config)#</a:t>
            </a:r>
            <a:r>
              <a:rPr b="0" lang="en-AU" sz="3200" spc="-1" strike="noStrike">
                <a:solidFill>
                  <a:srgbClr val="000000"/>
                </a:solidFill>
                <a:latin typeface="Courier New"/>
              </a:rPr>
              <a:t>line vty 0 4</a:t>
            </a:r>
            <a:br>
              <a:rPr sz="3200"/>
            </a:br>
            <a:r>
              <a:rPr b="0" lang="en-AU" sz="3200" spc="-1" strike="noStrike">
                <a:solidFill>
                  <a:srgbClr val="0000ff"/>
                </a:solidFill>
                <a:latin typeface="Courier New"/>
              </a:rPr>
              <a:t>rtr(config)#</a:t>
            </a:r>
            <a:r>
              <a:rPr b="0" lang="en-AU" sz="3200" spc="-1" strike="noStrike">
                <a:solidFill>
                  <a:srgbClr val="000000"/>
                </a:solidFill>
                <a:latin typeface="Courier New"/>
              </a:rPr>
              <a:t>transport input ssh</a:t>
            </a:r>
            <a:br>
              <a:rPr sz="3200"/>
            </a:br>
            <a:r>
              <a:rPr b="0" lang="en-AU" sz="3200" spc="-1" strike="noStrike">
                <a:solidFill>
                  <a:srgbClr val="0000ff"/>
                </a:solidFill>
                <a:latin typeface="Courier New"/>
              </a:rPr>
              <a:t>rtr(config)#</a:t>
            </a:r>
            <a:r>
              <a:rPr b="0" lang="en-AU" sz="3200" spc="-1" strike="noStrike">
                <a:solidFill>
                  <a:srgbClr val="000000"/>
                </a:solidFill>
                <a:latin typeface="Courier New"/>
              </a:rPr>
              <a:t>^Z  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(“exit” completely)</a:t>
            </a:r>
            <a:br>
              <a:rPr sz="3200"/>
            </a:br>
            <a:r>
              <a:rPr b="0" lang="en-AU" sz="3200" spc="-1" strike="noStrike">
                <a:solidFill>
                  <a:srgbClr val="0000ff"/>
                </a:solidFill>
                <a:latin typeface="Courier New"/>
              </a:rPr>
              <a:t>rtr#</a:t>
            </a:r>
            <a:r>
              <a:rPr b="0" lang="en-AU" sz="3200" spc="-1" strike="noStrike">
                <a:solidFill>
                  <a:srgbClr val="000000"/>
                </a:solidFill>
                <a:latin typeface="Courier New"/>
              </a:rPr>
              <a:t>wr m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Lucida Sans typewriter Regular"/>
              </a:rPr>
              <a:t>SSH is now ena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Lucida Sans typewriter Regular"/>
              </a:rPr>
              <a:t>Telnet is not necessary disabl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Lucida Grande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typewriter Regular"/>
              </a:rPr>
              <a:t>Use ACLs to be sure of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Title 3"/>
          <p:cNvGrpSpPr/>
          <p:nvPr/>
        </p:nvGrpSpPr>
        <p:grpSpPr>
          <a:xfrm>
            <a:off x="401760" y="-23760"/>
            <a:ext cx="8797680" cy="1249200"/>
            <a:chOff x="401760" y="-23760"/>
            <a:chExt cx="8797680" cy="1249200"/>
          </a:xfrm>
        </p:grpSpPr>
        <p:pic>
          <p:nvPicPr>
            <p:cNvPr id="163" name="Title 3" descr=""/>
            <p:cNvPicPr/>
            <p:nvPr/>
          </p:nvPicPr>
          <p:blipFill>
            <a:blip r:embed="rId1"/>
            <a:stretch/>
          </p:blipFill>
          <p:spPr>
            <a:xfrm>
              <a:off x="401760" y="-23760"/>
              <a:ext cx="8797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57200" y="648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H continue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5:44:59Z</dcterms:created>
  <dc:creator>Hervey Allen</dc:creator>
  <dc:description/>
  <dc:language>en-US</dc:language>
  <cp:lastModifiedBy>Hervey Allen</cp:lastModifiedBy>
  <dcterms:modified xsi:type="dcterms:W3CDTF">2010-02-23T08:05:35Z</dcterms:modified>
  <cp:revision>29</cp:revision>
  <dc:subject/>
  <dc:title>Slide 1</dc:title>
</cp:coreProperties>
</file>