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DC13A-C2EA-477B-8664-C5A9B01F1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0894E-C52A-463B-BB8D-7A48EA5F2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5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1f497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5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76092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Pslide5"/>
          <p:cNvPicPr/>
          <p:nvPr/>
        </p:nvPicPr>
        <p:blipFill>
          <a:blip r:embed="rId2"/>
          <a:stretch/>
        </p:blipFill>
        <p:spPr>
          <a:xfrm>
            <a:off x="-6480" y="-12600"/>
            <a:ext cx="9156960" cy="687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src.jpg"/>
          <p:cNvPicPr/>
          <p:nvPr/>
        </p:nvPicPr>
        <p:blipFill>
          <a:blip r:embed="rId3"/>
          <a:stretch/>
        </p:blipFill>
        <p:spPr>
          <a:xfrm>
            <a:off x="274680" y="652320"/>
            <a:ext cx="385920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pricot-2010-logo.png"/>
          <p:cNvPicPr/>
          <p:nvPr/>
        </p:nvPicPr>
        <p:blipFill>
          <a:blip r:embed="rId4"/>
          <a:stretch/>
        </p:blipFill>
        <p:spPr>
          <a:xfrm>
            <a:off x="4668840" y="658800"/>
            <a:ext cx="399888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951000"/>
            <a:ext cx="77724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Networking Monitoring and Manag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04800"/>
            <a:ext cx="640080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COT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ala Lumpur, Malay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42520" y="1433520"/>
            <a:ext cx="8420040" cy="868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318960" indent="0">
              <a:spcBef>
                <a:spcPts val="638"/>
              </a:spcBef>
              <a:buNone/>
              <a:tabLst>
                <a:tab algn="l" pos="0"/>
                <a:tab algn="l" pos="22320"/>
                <a:tab algn="l" pos="430200"/>
                <a:tab algn="l" pos="836640"/>
                <a:tab algn="l" pos="1244520"/>
                <a:tab algn="l" pos="1652760"/>
                <a:tab algn="l" pos="2060640"/>
                <a:tab algn="l" pos="2467080"/>
                <a:tab algn="l" pos="2874960"/>
                <a:tab algn="l" pos="3282840"/>
                <a:tab algn="l" pos="3689280"/>
                <a:tab algn="l" pos="4097160"/>
                <a:tab algn="l" pos="4505400"/>
                <a:tab algn="l" pos="4913280"/>
                <a:tab algn="l" pos="5319720"/>
                <a:tab algn="l" pos="5727600"/>
                <a:tab algn="l" pos="6135840"/>
                <a:tab algn="l" pos="6541920"/>
                <a:tab algn="l" pos="6950160"/>
                <a:tab algn="l" pos="7358040"/>
                <a:tab algn="l" pos="7764480"/>
                <a:tab algn="l" pos="7878600"/>
                <a:tab algn="l" pos="85359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ybe you’ve asked, “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How do you keep track 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of it all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?”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737240" y="2449440"/>
            <a:ext cx="3363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90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MS Gothic"/>
              </a:rPr>
              <a:t>...In the end, ”we” wrote our own software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737240" y="4083120"/>
            <a:ext cx="3639960" cy="58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6" name="Text Box 6"/>
          <p:cNvSpPr/>
          <p:nvPr/>
        </p:nvSpPr>
        <p:spPr>
          <a:xfrm>
            <a:off x="4784760" y="5021280"/>
            <a:ext cx="3592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840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a-DK" sz="4400" spc="-1" strike="noStrike">
                <a:solidFill>
                  <a:srgbClr val="000000"/>
                </a:solidFill>
                <a:latin typeface="Arial"/>
                <a:ea typeface="MS Gothic"/>
              </a:rPr>
              <a:t>Netdo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netdot-image.png"/>
          <p:cNvPicPr/>
          <p:nvPr/>
        </p:nvPicPr>
        <p:blipFill>
          <a:blip r:embed="rId2"/>
          <a:stretch/>
        </p:blipFill>
        <p:spPr>
          <a:xfrm>
            <a:off x="542880" y="2449440"/>
            <a:ext cx="3467160" cy="41274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38000"/>
              </a:srgbClr>
            </a:outerShdw>
          </a:effectLst>
        </p:spPr>
      </p:pic>
      <p:grpSp>
        <p:nvGrpSpPr>
          <p:cNvPr id="158" name="Title 8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59" name="Title 8" descr=""/>
            <p:cNvPicPr/>
            <p:nvPr/>
          </p:nvPicPr>
          <p:blipFill>
            <a:blip r:embed="rId3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61680" y="1368360"/>
            <a:ext cx="8281800" cy="4905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80880" indent="0">
              <a:spcBef>
                <a:spcPts val="638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ics, such as documenting your switches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each port connected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simple text file with one line for every port in a swit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-switch1, port 1, Room 29 – Director’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-switch1, port 2, Room 43 – Reception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-switch1, port 3, Room 100 –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-switch1, port 4, Room 105 – Professor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85840">
              <a:lnSpc>
                <a:spcPct val="103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-switch1, port 25, uplink to health-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formation might be available to your network staff, help desk staff, via a wiki, software interfac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ember to label your por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63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62040" y="1587240"/>
            <a:ext cx="804384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N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535720" y="2457360"/>
            <a:ext cx="2431800" cy="360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974880" y="2457360"/>
            <a:ext cx="4140000" cy="3132360"/>
          </a:xfrm>
          <a:prstGeom prst="rect">
            <a:avLst/>
          </a:prstGeom>
          <a:ln w="0">
            <a:noFill/>
          </a:ln>
        </p:spPr>
      </p:pic>
      <p:grpSp>
        <p:nvGrpSpPr>
          <p:cNvPr id="168" name="Smiley Face 5"/>
          <p:cNvGrpSpPr/>
          <p:nvPr/>
        </p:nvGrpSpPr>
        <p:grpSpPr>
          <a:xfrm>
            <a:off x="1938240" y="1596960"/>
            <a:ext cx="628920" cy="628560"/>
            <a:chOff x="1938240" y="1596960"/>
            <a:chExt cx="628920" cy="628560"/>
          </a:xfrm>
        </p:grpSpPr>
        <p:pic>
          <p:nvPicPr>
            <p:cNvPr id="169" name="Smiley Face 5" descr=""/>
            <p:cNvPicPr/>
            <p:nvPr/>
          </p:nvPicPr>
          <p:blipFill>
            <a:blip r:embed="rId3"/>
            <a:stretch/>
          </p:blipFill>
          <p:spPr>
            <a:xfrm>
              <a:off x="1938240" y="1596960"/>
              <a:ext cx="628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146320" y="1784520"/>
              <a:ext cx="212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Title 7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72" name="Title 7" descr=""/>
            <p:cNvPicPr/>
            <p:nvPr/>
          </p:nvPicPr>
          <p:blipFill>
            <a:blip r:embed="rId4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: Labe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88600" y="1206000"/>
            <a:ext cx="8481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3560" indent="0">
              <a:spcBef>
                <a:spcPts val="700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re are some other Open Source network documentaiton projec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3560" indent="-573120"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o manage DHCP and DNS entries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Arial"/>
              </a:rPr>
              <a:t>See http://maintainproject.osuosl.org/about for a humorous history.</a:t>
            </a:r>
            <a:br>
              <a:rPr sz="1600"/>
            </a:br>
            <a:r>
              <a:rPr b="0" i="1" lang="da-D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3560" indent="0">
              <a:spcBef>
                <a:spcPts val="726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a-DK" sz="2900" spc="-1" strike="noStrike">
                <a:solidFill>
                  <a:srgbClr val="000000"/>
                </a:solidFill>
                <a:latin typeface="Arial"/>
              </a:rPr>
              <a:t>Netdisco</a:t>
            </a:r>
            <a:r>
              <a:rPr b="0" lang="da-DK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spcBef>
                <a:spcPts val="374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Locate a machine on the network by MAC or IP and show the switch port it lives a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spcBef>
                <a:spcPts val="374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Turn Off a switch port while leaving an audit trail. Admins log why a port was shut dow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spcBef>
                <a:spcPts val="374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Inventory your network hardware by model, vendor, switch-card, firmware and operating syst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spcBef>
                <a:spcPts val="374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Report on IP address and switch port usage: historical and curren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spcBef>
                <a:spcPts val="374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Pretty pictures of your network. </a:t>
            </a:r>
            <a:br>
              <a:rPr sz="1500"/>
            </a:b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63560" indent="0">
              <a:spcBef>
                <a:spcPts val="550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a-DK" sz="2200" spc="-1" strike="noStrike">
                <a:solidFill>
                  <a:srgbClr val="000000"/>
                </a:solidFill>
                <a:latin typeface="Arial"/>
              </a:rPr>
              <a:t>is a web based, multilingual, TCP IP address management (IPAM) software and tracking t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73280" y="2297160"/>
            <a:ext cx="1449360" cy="398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719280" y="3124080"/>
            <a:ext cx="652320" cy="65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603360" y="5808600"/>
            <a:ext cx="1671480" cy="308160"/>
          </a:xfrm>
          <a:prstGeom prst="rect">
            <a:avLst/>
          </a:prstGeom>
          <a:ln w="0">
            <a:noFill/>
          </a:ln>
        </p:spPr>
      </p:pic>
      <p:grpSp>
        <p:nvGrpSpPr>
          <p:cNvPr id="178" name="Title 6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79" name="Title 6" descr=""/>
            <p:cNvPicPr/>
            <p:nvPr/>
          </p:nvPicPr>
          <p:blipFill>
            <a:blip r:embed="rId4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: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ftware Discove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206880" y="3486240"/>
            <a:ext cx="5748120" cy="299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536400" y="1657440"/>
            <a:ext cx="4876920" cy="2543040"/>
          </a:xfrm>
          <a:prstGeom prst="rect">
            <a:avLst/>
          </a:prstGeom>
          <a:ln w="0">
            <a:noFill/>
          </a:ln>
        </p:spPr>
      </p:pic>
      <p:grpSp>
        <p:nvGrpSpPr>
          <p:cNvPr id="183" name="Title 4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84" name="Title 4" descr=""/>
            <p:cNvPicPr/>
            <p:nvPr/>
          </p:nvPicPr>
          <p:blipFill>
            <a:blip r:embed="rId3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: Diagra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74200" y="1312560"/>
            <a:ext cx="8481960" cy="528804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Windows Diagramming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500" spc="-1" strike="noStrike">
                <a:solidFill>
                  <a:srgbClr val="000000"/>
                </a:solidFill>
                <a:latin typeface="Arial"/>
              </a:rPr>
              <a:t>Visio:</a:t>
            </a:r>
            <a:br>
              <a:rPr sz="2500"/>
            </a:b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0000ff"/>
                </a:solidFill>
                <a:latin typeface="Arial"/>
              </a:rPr>
              <a:t>http://office.microsoft.com/en-us/visio/FX100487861033.asp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500" spc="-1" strike="noStrike">
                <a:solidFill>
                  <a:srgbClr val="000000"/>
                </a:solidFill>
                <a:latin typeface="Arial"/>
              </a:rPr>
              <a:t>Ezdraw:</a:t>
            </a:r>
            <a:br>
              <a:rPr sz="2500"/>
            </a:b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200" spc="-1" strike="noStrike">
                <a:solidFill>
                  <a:srgbClr val="0000ff"/>
                </a:solidFill>
                <a:latin typeface="Arial"/>
              </a:rPr>
              <a:t>http://www.edrawsoft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Open Source Diagramming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500" spc="-1" strike="noStrike">
                <a:solidFill>
                  <a:srgbClr val="000000"/>
                </a:solidFill>
                <a:latin typeface="Arial"/>
              </a:rPr>
              <a:t>Dia:</a:t>
            </a:r>
            <a:br>
              <a:rPr sz="2500"/>
            </a:b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200" spc="-1" strike="noStrike">
                <a:solidFill>
                  <a:srgbClr val="0000ff"/>
                </a:solidFill>
                <a:latin typeface="Arial"/>
              </a:rPr>
              <a:t>http://live.gnome.org/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500" spc="-1" strike="noStrike">
                <a:solidFill>
                  <a:srgbClr val="000000"/>
                </a:solidFill>
                <a:latin typeface="Arial"/>
              </a:rPr>
              <a:t>Cisco reference icons: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200" spc="-1" strike="noStrike">
                <a:solidFill>
                  <a:srgbClr val="0000ff"/>
                </a:solidFill>
                <a:latin typeface="Arial"/>
              </a:rPr>
              <a:t>http://www.cisco.com/web/about/ac50/ac47/2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500" spc="-1" strike="noStrike">
                <a:solidFill>
                  <a:srgbClr val="000000"/>
                </a:solidFill>
                <a:latin typeface="Arial"/>
              </a:rPr>
              <a:t>Nagios Exchange:</a:t>
            </a:r>
            <a:br>
              <a:rPr sz="2500"/>
            </a:b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200" spc="-1" strike="noStrike">
                <a:solidFill>
                  <a:srgbClr val="0000ff"/>
                </a:solidFill>
                <a:latin typeface="Arial"/>
              </a:rPr>
              <a:t>http://www.nagiosexchange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88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ation: Diagramming Softwa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49000" y="1411200"/>
            <a:ext cx="8489880" cy="509112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 fontScale="99000"/>
          </a:bodyPr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ree kinds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1320" indent="-508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agnostic too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used to test connectivity, ascertain that a location is reachable, or a device is up – usually activ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1320" indent="-508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too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tools running in the background (”daemons” or services), which collect events, but can also initiate their own probes (using diagnostic tools), and recording the output, in a scheduled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1320" indent="-508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ormance too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tell us how our network is handling traffic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Title 4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92" name="Title 4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ing systems &amp; t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50520" y="1368360"/>
            <a:ext cx="8481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514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erformanc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726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s to look at each router interface (probably don’t need to look at switch 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on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5840">
              <a:spcBef>
                <a:spcPts val="726"/>
              </a:spcBef>
              <a:buClr>
                <a:srgbClr val="000000"/>
              </a:buClr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flow/NfS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sen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5840">
              <a:spcBef>
                <a:spcPts val="726"/>
              </a:spcBef>
              <a:buClr>
                <a:srgbClr val="000000"/>
              </a:buClr>
              <a:buFont typeface="Lucida Grande"/>
              <a:buChar char="-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T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oss.oetiker.ch/mrt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76440" y="4602240"/>
            <a:ext cx="6035400" cy="3206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6783480" y="4614840"/>
            <a:ext cx="20732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TG = “Multi Router Traffic Grap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98" name="Title 5" descr=""/>
            <p:cNvPicPr/>
            <p:nvPr/>
          </p:nvPicPr>
          <p:blipFill>
            <a:blip r:embed="rId2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ing systems &amp; t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53680" y="1347840"/>
            <a:ext cx="8489880" cy="5132160"/>
          </a:xfrm>
          <a:prstGeom prst="rect">
            <a:avLst/>
          </a:prstGeom>
          <a:noFill/>
          <a:ln w="0">
            <a:noFill/>
          </a:ln>
        </p:spPr>
        <p:txBody>
          <a:bodyPr tIns="0" anchor="t" anchorCtr="1">
            <a:normAutofit fontScale="94000"/>
          </a:bodyPr>
          <a:p>
            <a:pPr marL="35784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ng – test connectivity to a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route – show path to a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TR – combination of ping +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 collectors (po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ssiv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 monitoring, SNMP trap receivers, Ne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kePing – record and graph latency to a set of hosts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ICMP (Ping) or oth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/RRD – record and graph bandwidth usage on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 port or network link, at regula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02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ing systems &amp; t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8080" y="1304640"/>
            <a:ext cx="8489880" cy="555300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work &amp; Service Monitor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gios – server and service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monitor pretty much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, SMTP, DNS, Disk space, CPU usag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write new plugins (extension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cripting skills are required to develop simpl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jobs – Perl, Shell scripts, php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good Open Sourc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2673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bbix, ZenOSS, Hyperic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 them to monitor reachability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tency in your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ent-child dependency mechanisms are very us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06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ing systems &amp; t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-316080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i="1" lang="da-DK" sz="3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 topic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There are a lot of tools to choose fro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ts val="2923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ts val="2923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ts val="2923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Linux/Unix-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ts val="2923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Windows-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ts val="2923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Network Vendor tools (Cisco, Juniper, oth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No one combination of tools is correct for every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What you need to know about your network will drive your choice of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94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roduc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88600" y="1292040"/>
            <a:ext cx="8489880" cy="532908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 fontScale="98000"/>
          </a:bodyPr>
          <a:p>
            <a:pPr marL="37296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nitor your critical Network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/Web/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us/LDAP/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SH to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will you be no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't forget log colle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network device (and UNIX and Windows servers as well) can report system events using sys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llect and monitor your l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502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doing so is one of the most common mistakes whe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ng 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10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ing systems &amp; t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55480" y="1345680"/>
            <a:ext cx="8490240" cy="525492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NMP – Simple Network Management Protocol</a:t>
            </a:r>
            <a:br>
              <a:rPr sz="9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ustry standard, hundreds of tools exist to exploi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on any decent network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throughput, errors, CPU load, temperatur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and Windows implement thi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, running processes, 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SH and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lso possible to use scripting to automate monitoring of hos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14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anagement protoco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85360" y="1335240"/>
            <a:ext cx="8481960" cy="493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80880" indent="0">
              <a:spcBef>
                <a:spcPts val="638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SNMP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38"/>
              </a:spcBef>
              <a:buClr>
                <a:srgbClr val="000000"/>
              </a:buClr>
              <a:buFont typeface="Lucida Grande"/>
              <a:buChar char="-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ttp://net-snmp.sourceforg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3000"/>
              </a:lnSpc>
              <a:spcBef>
                <a:spcPts val="638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imple to build simpl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at builds snapshots of which IP is used by which Ethern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that builds shapshots of which Ethernet addresses exist on which port on which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mote RAID array fo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erver, switches and routers for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3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18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MP too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8080" y="1347840"/>
            <a:ext cx="8489880" cy="516888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ffic accounting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0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your network used for, and how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0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 for Quality of Service, detecting abuses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billing (meterin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0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dicated protocol: Net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0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traffic ”flows”: protocol, source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tination,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0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tools exist to process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30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tools, flo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30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92240">
              <a:lnSpc>
                <a:spcPts val="30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22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s and accounting too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0920" y="1357200"/>
            <a:ext cx="8489880" cy="5221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376920" indent="0">
              <a:lnSpc>
                <a:spcPts val="2837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 the problem trans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oad, temporary resource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ts val="2837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 the problem perma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ipment failure, lin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ts val="2837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do you detect an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ts val="2837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ticket system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ticket to track an event (planned or failur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360" indent="-252720">
              <a:lnSpc>
                <a:spcPts val="2837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dispatch/escal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6680" indent="-190080">
              <a:lnSpc>
                <a:spcPts val="2837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handles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6680" indent="-190080">
              <a:lnSpc>
                <a:spcPts val="2837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gets it next if no one is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28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ult and problem managem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53680" y="1347840"/>
            <a:ext cx="8489880" cy="5268960"/>
          </a:xfrm>
          <a:prstGeom prst="rect">
            <a:avLst/>
          </a:prstGeom>
          <a:noFill/>
          <a:ln w="0">
            <a:noFill/>
          </a:ln>
        </p:spPr>
        <p:txBody>
          <a:bodyPr tIns="0" anchor="t" anchorCtr="1">
            <a:normAutofit/>
          </a:bodyPr>
          <a:p>
            <a:pPr marL="38088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re they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135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k all events, failures 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cal point for helpdesk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 it to track al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135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internal and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ents originating from the out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135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ents originating from the in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135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outages (direct or indirec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ts val="3135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ned maintenances or upgrades – Remember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fy your custom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34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cketing syste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55480" y="134604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-2854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icket system to follow each case, including internal communication between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ase is assigned a cas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ase goes through a similar life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40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cketing syste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77440" y="1368000"/>
            <a:ext cx="8489880" cy="5111640"/>
          </a:xfrm>
          <a:prstGeom prst="rect">
            <a:avLst/>
          </a:prstGeom>
          <a:noFill/>
          <a:ln w="0">
            <a:noFill/>
          </a:ln>
        </p:spPr>
        <p:txBody>
          <a:bodyPr tIns="34200" anchor="t">
            <a:normAutofit/>
          </a:bodyPr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orkflow:</a:t>
            </a:r>
            <a:br>
              <a:rPr sz="2900"/>
            </a:br>
            <a:br>
              <a:rPr sz="29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Ticket System      Helpdesk         Tech            Eqpt    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----------------------------------------------------------------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T                T               T                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query      |                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from  </a:t>
            </a:r>
            <a:r>
              <a:rPr b="1" lang="en-GB" sz="1600" spc="-1" strike="noStrike">
                <a:solidFill>
                  <a:srgbClr val="00ae00"/>
                </a:solidFill>
                <a:latin typeface="Lucida Sans Typewriter"/>
              </a:rPr>
              <a:t>--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customer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request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ack.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|               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comm </a:t>
            </a:r>
            <a:r>
              <a:rPr b="0" lang="en-GB" sz="1600" spc="-1" strike="noStrike">
                <a:solidFill>
                  <a:srgbClr val="0000ff"/>
                </a:solidFill>
                <a:latin typeface="Lucida Sans Typewriter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fix issue </a:t>
            </a:r>
            <a:r>
              <a:rPr b="0" lang="en-GB" sz="1600" spc="-1" strike="noStrike">
                <a:solidFill>
                  <a:srgbClr val="0000ff"/>
                </a:solidFill>
                <a:latin typeface="Lucida Sans Typewriter"/>
              </a:rPr>
              <a:t>-&gt;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eqp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report fix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customer </a:t>
            </a:r>
            <a:r>
              <a:rPr b="1" lang="en-GB" sz="1600" spc="-1" strike="noStrike">
                <a:solidFill>
                  <a:srgbClr val="00ae00"/>
                </a:solidFill>
                <a:latin typeface="Lucida Sans Typewriter"/>
              </a:rPr>
              <a:t>&lt;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respond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               |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46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cketing system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99760" y="1368360"/>
            <a:ext cx="8489880" cy="4780080"/>
          </a:xfrm>
          <a:prstGeom prst="rect">
            <a:avLst/>
          </a:prstGeom>
          <a:noFill/>
          <a:ln w="0">
            <a:noFill/>
          </a:ln>
        </p:spPr>
        <p:txBody>
          <a:bodyPr tIns="47880" anchor="t">
            <a:normAutofit fontScale="90000"/>
          </a:bodyPr>
          <a:p>
            <a:pPr marL="308520" indent="0">
              <a:lnSpc>
                <a:spcPts val="2636"/>
              </a:lnSpc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t (request tra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ily used worldw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lassic ticketing system that can be customized to your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what difficult to install and con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les large-scal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ts val="2636"/>
              </a:lnSpc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ybrid system that includes a wiki and project management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cketing system is not as robust as rt, but work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used for ”trac”king group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ts val="2636"/>
              </a:lnSpc>
              <a:spcBef>
                <a:spcPts val="799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d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30040">
              <a:lnSpc>
                <a:spcPts val="2636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trac, but more robust. Harder to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Title 5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252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cketing systems: examp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22000" y="1335240"/>
            <a:ext cx="8599320" cy="5373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se are systems that observe all of your network traffic and report when it sees specific kinds of problems, such 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s that are infected or are acting as spamming 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spcBef>
                <a:spcPts val="638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commonly used open source tool: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ttp://www.snor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ude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formation Management System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ttps://dev.prelude-technologie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mhain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alized HIDS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la-samhna.de/samhai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can for vulnerabilities: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ttp://www.nessus.org/downloa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Title 3"/>
          <p:cNvGrpSpPr/>
          <p:nvPr/>
        </p:nvGrpSpPr>
        <p:grpSpPr>
          <a:xfrm>
            <a:off x="401760" y="-60480"/>
            <a:ext cx="8797680" cy="1339920"/>
            <a:chOff x="401760" y="-60480"/>
            <a:chExt cx="8797680" cy="1339920"/>
          </a:xfrm>
        </p:grpSpPr>
        <p:pic>
          <p:nvPicPr>
            <p:cNvPr id="256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60480"/>
              <a:ext cx="879768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Intrusion Detection Systems (NID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389240"/>
            <a:ext cx="8489880" cy="5232240"/>
          </a:xfrm>
          <a:prstGeom prst="rect">
            <a:avLst/>
          </a:prstGeom>
          <a:noFill/>
          <a:ln w="0">
            <a:noFill/>
          </a:ln>
        </p:spPr>
        <p:txBody>
          <a:bodyPr tIns="34200" anchor="t" anchorCtr="1">
            <a:normAutofit fontScale="95000"/>
          </a:bodyPr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stem &amp; Servi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4400" indent="-242640">
              <a:lnSpc>
                <a:spcPts val="3135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chability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measurement/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4400" indent="-242640">
              <a:lnSpc>
                <a:spcPts val="3135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planning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formance monitoring (RTT, throughput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s &amp; Accounting/M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ult Management (Intrusion De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4400" indent="-242640">
              <a:lnSpc>
                <a:spcPts val="3135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 detection, troubleshooting,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4400" indent="-242640">
              <a:lnSpc>
                <a:spcPts val="3135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cketing systems, help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1080">
              <a:lnSpc>
                <a:spcPts val="3135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nge management and configuratio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98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is network managemen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49000" y="1326960"/>
            <a:ext cx="8489880" cy="4811400"/>
          </a:xfrm>
          <a:prstGeom prst="rect">
            <a:avLst/>
          </a:prstGeom>
          <a:noFill/>
          <a:ln w="0">
            <a:noFill/>
          </a:ln>
        </p:spPr>
        <p:txBody>
          <a:bodyPr tIns="0" anchor="t" anchorCtr="1">
            <a:normAutofit fontScale="94000"/>
          </a:bodyPr>
          <a:p>
            <a:pPr marL="357840" indent="-268200">
              <a:lnSpc>
                <a:spcPts val="286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changes to equipment configuration using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vision contr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lso for configuration fi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268200">
              <a:lnSpc>
                <a:spcPts val="286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entory management (equipment, IPs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268200">
              <a:lnSpc>
                <a:spcPts val="286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version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86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simple a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p named.conf named.conf.20070827-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-268200">
              <a:lnSpc>
                <a:spcPts val="286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plain configuration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86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VS, Subversion (SV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86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rcu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-268200">
              <a:lnSpc>
                <a:spcPts val="286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ou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840" indent="-240120">
              <a:lnSpc>
                <a:spcPts val="286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Title 5"/>
          <p:cNvGrpSpPr/>
          <p:nvPr/>
        </p:nvGrpSpPr>
        <p:grpSpPr>
          <a:xfrm>
            <a:off x="401760" y="-60480"/>
            <a:ext cx="8797680" cy="1339920"/>
            <a:chOff x="401760" y="-60480"/>
            <a:chExt cx="8797680" cy="1339920"/>
          </a:xfrm>
        </p:grpSpPr>
        <p:pic>
          <p:nvPicPr>
            <p:cNvPr id="262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60480"/>
              <a:ext cx="879768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guration management and monitor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68080" y="1325160"/>
            <a:ext cx="8489880" cy="5335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80880" indent="-28548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ditionally, used for source code (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 well for any text-based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for binary files, but less easy to se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network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C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utomatic Cisco configuration retrieval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ing, also for other equipment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-in to Project Management Software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, many other wiki products. Excellent f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ing your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343640" y="-48888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306440" y="84916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Title 5"/>
          <p:cNvGrpSpPr/>
          <p:nvPr/>
        </p:nvGrpSpPr>
        <p:grpSpPr>
          <a:xfrm>
            <a:off x="401760" y="-60480"/>
            <a:ext cx="8797680" cy="1339920"/>
            <a:chOff x="401760" y="-60480"/>
            <a:chExt cx="8797680" cy="1339920"/>
          </a:xfrm>
        </p:grpSpPr>
        <p:pic>
          <p:nvPicPr>
            <p:cNvPr id="268" name="Title 5" descr=""/>
            <p:cNvPicPr/>
            <p:nvPr/>
          </p:nvPicPr>
          <p:blipFill>
            <a:blip r:embed="rId1"/>
            <a:stretch/>
          </p:blipFill>
          <p:spPr>
            <a:xfrm>
              <a:off x="401760" y="-60480"/>
              <a:ext cx="879768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guration management and monitor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343640" y="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06440" y="64612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895560" y="1611360"/>
            <a:ext cx="1795680" cy="81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770520" y="3276720"/>
            <a:ext cx="2122560" cy="979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Capacity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Availability (SLA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Detect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760320" y="2884320"/>
            <a:ext cx="2122560" cy="65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Change control &amp;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 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93800" y="4419720"/>
            <a:ext cx="2122560" cy="65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962520" y="5954760"/>
            <a:ext cx="179532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Fix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809960" y="4844880"/>
            <a:ext cx="1893960" cy="654120"/>
          </a:xfrm>
          <a:prstGeom prst="rect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User compl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3830760" y="3276720"/>
            <a:ext cx="1960560" cy="979200"/>
          </a:xfrm>
          <a:prstGeom prst="ellipse">
            <a:avLst/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NOC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Ticke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5789520" y="2036880"/>
            <a:ext cx="1960560" cy="144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7750080" y="2036880"/>
            <a:ext cx="0" cy="114300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7781760" y="4386240"/>
            <a:ext cx="1800" cy="179532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H="1">
            <a:off x="5820840" y="6183360"/>
            <a:ext cx="1962360" cy="144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 flipH="1">
            <a:off x="1738440" y="6183360"/>
            <a:ext cx="2125440" cy="144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6"/>
          <p:cNvSpPr/>
          <p:nvPr/>
        </p:nvSpPr>
        <p:spPr>
          <a:xfrm flipV="1">
            <a:off x="1739880" y="5203440"/>
            <a:ext cx="1440" cy="98100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7"/>
          <p:cNvSpPr/>
          <p:nvPr/>
        </p:nvSpPr>
        <p:spPr>
          <a:xfrm flipV="1">
            <a:off x="1739880" y="3666960"/>
            <a:ext cx="1440" cy="65592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8"/>
          <p:cNvSpPr/>
          <p:nvPr/>
        </p:nvSpPr>
        <p:spPr>
          <a:xfrm flipV="1">
            <a:off x="1739880" y="2034720"/>
            <a:ext cx="1440" cy="78588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739880" y="2036880"/>
            <a:ext cx="2122560" cy="144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5365800" y="4257720"/>
            <a:ext cx="1440" cy="48888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1"/>
          <p:cNvSpPr/>
          <p:nvPr/>
        </p:nvSpPr>
        <p:spPr>
          <a:xfrm flipV="1">
            <a:off x="4680000" y="4321080"/>
            <a:ext cx="0" cy="147312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 flipV="1">
            <a:off x="3014640" y="4188960"/>
            <a:ext cx="979560" cy="49212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3"/>
          <p:cNvSpPr/>
          <p:nvPr/>
        </p:nvSpPr>
        <p:spPr>
          <a:xfrm>
            <a:off x="5856120" y="3767040"/>
            <a:ext cx="816120" cy="180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"/>
          <p:cNvSpPr/>
          <p:nvPr/>
        </p:nvSpPr>
        <p:spPr>
          <a:xfrm>
            <a:off x="4745160" y="2525760"/>
            <a:ext cx="1440" cy="65412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5"/>
          <p:cNvSpPr/>
          <p:nvPr/>
        </p:nvSpPr>
        <p:spPr>
          <a:xfrm>
            <a:off x="5789520" y="1871640"/>
            <a:ext cx="2611440" cy="1440"/>
          </a:xfrm>
          <a:prstGeom prst="line">
            <a:avLst/>
          </a:prstGeom>
          <a:ln w="36720">
            <a:solidFill>
              <a:srgbClr val="ff630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4060800" y="2689200"/>
            <a:ext cx="8161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2882880" y="4100400"/>
            <a:ext cx="817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856120" y="3373560"/>
            <a:ext cx="81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5332320" y="4361040"/>
            <a:ext cx="817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3962520" y="4844880"/>
            <a:ext cx="8157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6443640" y="1577880"/>
            <a:ext cx="1308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ff6309"/>
                </a:solidFill>
                <a:latin typeface="Arial"/>
                <a:ea typeface="MS Gothic"/>
              </a:rPr>
              <a:t>Notif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Title 32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01" name="Title 32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big picture revisite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03200" y="1455480"/>
            <a:ext cx="2611440" cy="4779720"/>
          </a:xfrm>
          <a:prstGeom prst="rect">
            <a:avLst/>
          </a:prstGeom>
          <a:noFill/>
          <a:ln w="0">
            <a:noFill/>
          </a:ln>
        </p:spPr>
        <p:txBody>
          <a:bodyPr tIns="78840" anchor="t" anchorCtr="1">
            <a:normAutofit fontScale="89000"/>
          </a:bodyPr>
          <a:p>
            <a:pPr marL="33876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P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ac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k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NMP/Perl/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63"/>
              </a:spcBef>
              <a:buClr>
                <a:srgbClr val="0000ff"/>
              </a:buClr>
              <a:buFont typeface="Arial"/>
              <a:buChar char="•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ic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25380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, Trac, Red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11920" y="1476360"/>
            <a:ext cx="2936880" cy="4471920"/>
          </a:xfrm>
          <a:prstGeom prst="rect">
            <a:avLst/>
          </a:prstGeom>
          <a:noFill/>
          <a:ln w="0">
            <a:noFill/>
          </a:ln>
        </p:spPr>
        <p:txBody>
          <a:bodyPr tIns="78840" anchor="t" anchorCtr="1">
            <a:normAutofit/>
          </a:bodyPr>
          <a:p>
            <a:pPr marL="3808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2700" spc="-1" strike="noStrike">
                <a:solidFill>
                  <a:srgbClr val="0000ff"/>
                </a:solidFill>
                <a:latin typeface="Arial"/>
              </a:rPr>
              <a:t>Net </a:t>
            </a:r>
            <a:r>
              <a:rPr b="1" lang="da-DK" sz="2400" spc="-1" strike="noStrike">
                <a:solidFill>
                  <a:srgbClr val="0000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Big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Big 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agio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et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Netdo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OpenN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ys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bb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006720" y="1498680"/>
            <a:ext cx="293688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8400" bIns="0" anchor="t">
            <a:noAutofit/>
          </a:bodyPr>
          <a:p>
            <a:pPr marL="380880" indent="-285480">
              <a:lnSpc>
                <a:spcPct val="77000"/>
              </a:lnSpc>
              <a:spcBef>
                <a:spcPts val="663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hange Mg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u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cid (rou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ecurity/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77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Title 6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07" name="Title 6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w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pen Source solutions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310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s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34960" y="1355400"/>
            <a:ext cx="8424720" cy="53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343640" y="0"/>
            <a:ext cx="1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06440" y="6461280"/>
            <a:ext cx="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41920" y="1512720"/>
            <a:ext cx="1795320" cy="816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716880" y="3178080"/>
            <a:ext cx="2122200" cy="97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Capacity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Availability (SLA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Detect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06320" y="2786040"/>
            <a:ext cx="2122560" cy="65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Change control &amp;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 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39800" y="4321080"/>
            <a:ext cx="2122560" cy="65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08520" y="5856120"/>
            <a:ext cx="1795320" cy="49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Fix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756320" y="4746600"/>
            <a:ext cx="1893600" cy="654120"/>
          </a:xfrm>
          <a:prstGeom prst="rect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User compl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3776760" y="3178080"/>
            <a:ext cx="1960560" cy="979560"/>
          </a:xfrm>
          <a:prstGeom prst="ellipse">
            <a:avLst/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6336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NOC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- Ticke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1"/>
          <p:cNvSpPr/>
          <p:nvPr/>
        </p:nvSpPr>
        <p:spPr>
          <a:xfrm>
            <a:off x="5735520" y="1938240"/>
            <a:ext cx="1960560" cy="18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-39240" bIns="-39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2"/>
          <p:cNvSpPr/>
          <p:nvPr/>
        </p:nvSpPr>
        <p:spPr>
          <a:xfrm>
            <a:off x="7696080" y="1938240"/>
            <a:ext cx="360" cy="11430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7728120" y="4287960"/>
            <a:ext cx="1440" cy="179532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5769000" y="6084720"/>
            <a:ext cx="1959120" cy="18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240" bIns="-39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5"/>
          <p:cNvSpPr/>
          <p:nvPr/>
        </p:nvSpPr>
        <p:spPr>
          <a:xfrm>
            <a:off x="1685880" y="6084720"/>
            <a:ext cx="2122560" cy="18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-39240" bIns="-39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6"/>
          <p:cNvSpPr/>
          <p:nvPr/>
        </p:nvSpPr>
        <p:spPr>
          <a:xfrm>
            <a:off x="1685880" y="5105520"/>
            <a:ext cx="1800" cy="9792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1685880" y="3570120"/>
            <a:ext cx="1800" cy="65268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8"/>
          <p:cNvSpPr/>
          <p:nvPr/>
        </p:nvSpPr>
        <p:spPr>
          <a:xfrm>
            <a:off x="1685880" y="1938240"/>
            <a:ext cx="1800" cy="78264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9"/>
          <p:cNvSpPr/>
          <p:nvPr/>
        </p:nvSpPr>
        <p:spPr>
          <a:xfrm>
            <a:off x="1685880" y="1938240"/>
            <a:ext cx="2122560" cy="1800"/>
          </a:xfrm>
          <a:prstGeom prst="pie">
            <a:avLst/>
          </a:pr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240" bIns="-39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0"/>
          <p:cNvSpPr/>
          <p:nvPr/>
        </p:nvSpPr>
        <p:spPr>
          <a:xfrm>
            <a:off x="5311800" y="4159080"/>
            <a:ext cx="1440" cy="489240"/>
          </a:xfrm>
          <a:prstGeom prst="pie">
            <a:avLst/>
          </a:pr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1"/>
          <p:cNvSpPr/>
          <p:nvPr/>
        </p:nvSpPr>
        <p:spPr>
          <a:xfrm>
            <a:off x="4626000" y="4222800"/>
            <a:ext cx="360" cy="1471680"/>
          </a:xfrm>
          <a:prstGeom prst="pie">
            <a:avLst/>
          </a:pr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2"/>
          <p:cNvSpPr/>
          <p:nvPr/>
        </p:nvSpPr>
        <p:spPr>
          <a:xfrm>
            <a:off x="2960640" y="4092480"/>
            <a:ext cx="981000" cy="488880"/>
          </a:xfrm>
          <a:prstGeom prst="pie">
            <a:avLst/>
          </a:pr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5802480" y="3668760"/>
            <a:ext cx="815760" cy="1440"/>
          </a:xfrm>
          <a:prstGeom prst="pie">
            <a:avLst/>
          </a:pr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600" bIns="-396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4"/>
          <p:cNvSpPr/>
          <p:nvPr/>
        </p:nvSpPr>
        <p:spPr>
          <a:xfrm>
            <a:off x="4691160" y="2427120"/>
            <a:ext cx="1440" cy="654120"/>
          </a:xfrm>
          <a:prstGeom prst="pie">
            <a:avLst/>
          </a:pr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5"/>
          <p:cNvSpPr/>
          <p:nvPr/>
        </p:nvSpPr>
        <p:spPr>
          <a:xfrm>
            <a:off x="5735520" y="1773360"/>
            <a:ext cx="2611440" cy="1440"/>
          </a:xfrm>
          <a:prstGeom prst="pie">
            <a:avLst/>
          </a:prstGeom>
          <a:noFill/>
          <a:ln w="36720">
            <a:solidFill>
              <a:srgbClr val="ff630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600" bIns="-396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4006800" y="2590920"/>
            <a:ext cx="8161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828880" y="4002120"/>
            <a:ext cx="817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5802480" y="3243240"/>
            <a:ext cx="815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5278320" y="4262400"/>
            <a:ext cx="817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908520" y="4746600"/>
            <a:ext cx="81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800000"/>
                </a:solidFill>
                <a:latin typeface="Arial"/>
                <a:ea typeface="MS Gothic"/>
              </a:rPr>
              <a:t>Tic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6389640" y="1479600"/>
            <a:ext cx="1308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66600" bIns="57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500" spc="-1" strike="noStrike">
                <a:solidFill>
                  <a:srgbClr val="ff6309"/>
                </a:solidFill>
                <a:latin typeface="Arial"/>
                <a:ea typeface="MS Gothic"/>
              </a:rPr>
              <a:t>Notif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Title 3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31" name="Title 3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big pictu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55480" y="1302840"/>
            <a:ext cx="8490240" cy="5241960"/>
          </a:xfrm>
          <a:prstGeom prst="rect">
            <a:avLst/>
          </a:prstGeom>
          <a:noFill/>
          <a:ln w="0">
            <a:noFill/>
          </a:ln>
        </p:spPr>
        <p:txBody>
          <a:bodyPr tIns="34200" anchor="t" anchorCtr="1">
            <a:normAutofit fontScale="96000"/>
          </a:bodyPr>
          <a:p>
            <a:pPr marL="36540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sure that the network is up and running.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oooo, we need to monitor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320" indent="-24516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iver projected SLAs (Service Leve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ment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320" indent="-24516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84320">
              <a:lnSpc>
                <a:spcPts val="31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your management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84320">
              <a:lnSpc>
                <a:spcPts val="31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r users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84320">
              <a:lnSpc>
                <a:spcPts val="31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r customers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84320">
              <a:lnSpc>
                <a:spcPts val="31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rest of the Internet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2320" indent="-24516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24x7 good enoug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84320">
              <a:lnSpc>
                <a:spcPts val="3161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's no such thing as 100% up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35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y network managemen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74200" y="1182240"/>
            <a:ext cx="8481960" cy="5504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80880" indent="-285480"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you have switches that support SNM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3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blic domain tools to ping every switch and router in your network and report that back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http://nagios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m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http://www.sysmo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http://www.opennms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3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know your network is having problems before the users start c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39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y network managemen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87160" y="1344240"/>
            <a:ext cx="8489880" cy="5621400"/>
          </a:xfrm>
          <a:prstGeom prst="rect">
            <a:avLst/>
          </a:prstGeom>
          <a:noFill/>
          <a:ln w="0">
            <a:noFill/>
          </a:ln>
        </p:spPr>
        <p:txBody>
          <a:bodyPr tIns="34200" anchor="t" anchorCtr="1">
            <a:normAutofit/>
          </a:bodyPr>
          <a:p>
            <a:pPr marL="380880" indent="0">
              <a:lnSpc>
                <a:spcPts val="3098"/>
              </a:lnSpc>
              <a:spcBef>
                <a:spcPts val="751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What does it take to deliver 99.9 % up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lnSpc>
                <a:spcPts val="3098"/>
              </a:lnSpc>
              <a:spcBef>
                <a:spcPts val="64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30.5 x 24 = 762 hours a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lnSpc>
                <a:spcPts val="3098"/>
              </a:lnSpc>
              <a:spcBef>
                <a:spcPts val="64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(762 – (762 x .999)) x 60 = 45 minutes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ly of downtime a mont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098"/>
              </a:lnSpc>
              <a:spcBef>
                <a:spcPts val="751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eed to shutdown 1 hour / wee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lnSpc>
                <a:spcPts val="3098"/>
              </a:lnSpc>
              <a:spcBef>
                <a:spcPts val="64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(762 - 4) / 762 x 100 = 99.4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lnSpc>
                <a:spcPts val="3098"/>
              </a:lnSpc>
              <a:spcBef>
                <a:spcPts val="64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member to take planned maintenance into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ccount in your calculations, and inform your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rs/customers if they are included/excluded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the 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098"/>
              </a:lnSpc>
              <a:spcBef>
                <a:spcPts val="751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How is availability measu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lnSpc>
                <a:spcPts val="3098"/>
              </a:lnSpc>
              <a:spcBef>
                <a:spcPts val="64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the core? End-to-end? From the Interne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43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y network managemen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64840" y="1380600"/>
            <a:ext cx="8489880" cy="5324760"/>
          </a:xfrm>
          <a:prstGeom prst="rect">
            <a:avLst/>
          </a:prstGeom>
          <a:noFill/>
          <a:ln w="0">
            <a:noFill/>
          </a:ln>
        </p:spPr>
        <p:txBody>
          <a:bodyPr tIns="0" anchor="t" anchorCtr="1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now when to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your bandwidth usage too hi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s your traffic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need to get a faster line, or more provi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equipment too 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ep an audit trace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al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s it easier to find cause of problems due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es and configur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re to consolidate all these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55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Network Operation Center (NO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47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y network managemen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55480" y="1628640"/>
            <a:ext cx="8490240" cy="4972320"/>
          </a:xfrm>
          <a:prstGeom prst="rect">
            <a:avLst/>
          </a:prstGeom>
          <a:noFill/>
          <a:ln w="0">
            <a:noFill/>
          </a:ln>
        </p:spPr>
        <p:txBody>
          <a:bodyPr tIns="0" anchor="t" anchorCtr="1">
            <a:normAutofit fontScale="93000"/>
          </a:bodyPr>
          <a:p>
            <a:pPr marL="353880" indent="0">
              <a:spcBef>
                <a:spcPts val="726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Where it all happe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37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37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network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37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ing of network-related incidents and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37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 tools reside (”NOC server”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37600">
              <a:lnSpc>
                <a:spcPct val="103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8440" indent="-17856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8440" indent="-17856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/flat file of each port on each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8440" indent="-17856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8440" indent="-17856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more as you'll see a bit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51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etwork Operations Center (NOC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9:29Z</dcterms:created>
  <dc:creator>Hervey Allen</dc:creator>
  <dc:description/>
  <dc:language>en-US</dc:language>
  <cp:lastModifiedBy>Hervey Allen</cp:lastModifiedBy>
  <dcterms:modified xsi:type="dcterms:W3CDTF">2010-02-23T05:19:34Z</dcterms:modified>
  <cp:revision>49</cp:revision>
  <dc:subject/>
  <dc:title>Slide 1</dc:title>
</cp:coreProperties>
</file>