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6856560"/>
            <a:ext cx="360" cy="151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644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360" y="4163040"/>
            <a:ext cx="77644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416304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16304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4998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4998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4960" y="1981080"/>
            <a:ext cx="24998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360" y="4163040"/>
            <a:ext cx="24998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9480" y="4163040"/>
            <a:ext cx="24998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4960" y="4163040"/>
            <a:ext cx="24998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64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64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89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789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79440"/>
            <a:ext cx="7763040" cy="74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789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360" y="416304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89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16304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7890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360" y="4163040"/>
            <a:ext cx="77644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6304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64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1.ietf.org/html.charters/ipfix-charter.html" TargetMode="External"/><Relationship Id="rId2" Type="http://schemas.openxmlformats.org/officeDocument/2006/relationships/hyperlink" Target="http://www1.ietf.org/rfc/rfc3917.tx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2242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436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Lucida Grande"/>
              </a:rPr>
              <a:t>NetFlow</a:t>
            </a:r>
            <a:endParaRPr b="0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530280"/>
            <a:ext cx="57358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216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7059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216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7059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70596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216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70596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Network Management Workshop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216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7059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216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70596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10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216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70596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Kuala Lumpur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79840" y="4319640"/>
            <a:ext cx="3800160" cy="22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ggregated 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981080"/>
            <a:ext cx="8534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19440" bIns="0" anchor="t">
            <a:noAutofit/>
          </a:bodyPr>
          <a:p>
            <a:pPr>
              <a:lnSpc>
                <a:spcPct val="91000"/>
              </a:lnSpc>
              <a:spcBef>
                <a:spcPts val="1250"/>
              </a:spcBef>
              <a:tabLst>
                <a:tab algn="l" pos="0"/>
                <a:tab algn="l" pos="316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t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rcPort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stPor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" name=""/>
          <p:cNvSpPr/>
          <p:nvPr/>
        </p:nvSpPr>
        <p:spPr>
          <a:xfrm>
            <a:off x="88920" y="246384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2562120"/>
            <a:ext cx="89647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736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TCP    32000  23         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TCP    23        3200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ICMP  0          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"/>
          <p:cNvSpPr/>
          <p:nvPr/>
        </p:nvSpPr>
        <p:spPr>
          <a:xfrm>
            <a:off x="1513080" y="4599000"/>
            <a:ext cx="56084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3168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/Destination IP Aggreg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956120"/>
            <a:ext cx="617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2680" bIns="0" anchor="t">
            <a:noAutofit/>
          </a:bodyPr>
          <a:p>
            <a:pPr>
              <a:lnSpc>
                <a:spcPct val="91000"/>
              </a:lnSpc>
              <a:spcBef>
                <a:spcPts val="1250"/>
              </a:spcBef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413320"/>
            <a:ext cx="662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661000"/>
            <a:ext cx="3930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"/>
          <p:cNvSpPr/>
          <p:nvPr/>
        </p:nvSpPr>
        <p:spPr>
          <a:xfrm>
            <a:off x="2499120" y="1371600"/>
            <a:ext cx="43315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36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in Active flow tab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orking with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37152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nerating and Viewing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orting Flows from devi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ypes of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mpling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ng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ols to Collect Flows - Flow-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lyzing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existing or write your 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 Descrip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533088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2440" bIns="50760" anchor="t">
            <a:normAutofit/>
          </a:bodyPr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 Key with more elements will generate more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reater number of flows leads to more post processing time to generate reports, more memory and CPU requirements for device generating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pends on application.  Traffic engineering vs. intrusion det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 Account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ounting information accumulated with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ckets, Bytes, Start Time, End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work routing information – masks and autonomous system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 Generation/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2440" bIns="50760" anchor="t">
            <a:normAutofit/>
          </a:bodyPr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ssive mon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 passive monitor (usually a unix host) receives all data and generates flow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ource intensive, newer investment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er or other existing network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er or other existing devices like switch, generate flo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ampling i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6640" indent="-3445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hing new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21360" y="4680000"/>
            <a:ext cx="243828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assive Monitor 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1828800"/>
            <a:ext cx="533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182880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"/>
          <p:cNvSpPr/>
          <p:nvPr/>
        </p:nvSpPr>
        <p:spPr>
          <a:xfrm>
            <a:off x="696960" y="3124080"/>
            <a:ext cx="206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station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" name=""/>
          <p:cNvSpPr/>
          <p:nvPr/>
        </p:nvSpPr>
        <p:spPr>
          <a:xfrm>
            <a:off x="6164280" y="3124080"/>
            <a:ext cx="2063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station B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52600" y="2057400"/>
            <a:ext cx="186048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573120" cy="511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295280" y="228600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8580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7080" y="1981080"/>
            <a:ext cx="1595520" cy="23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"/>
          <p:cNvSpPr/>
          <p:nvPr/>
        </p:nvSpPr>
        <p:spPr>
          <a:xfrm>
            <a:off x="6621480" y="5040360"/>
            <a:ext cx="1430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736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mpu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788760" cy="458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809880" y="1676520"/>
            <a:ext cx="912960" cy="380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95560" y="4840200"/>
            <a:ext cx="32144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probe connec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 switch port i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“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raffic mirror” mod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"/>
          <p:cNvSpPr/>
          <p:nvPr/>
        </p:nvSpPr>
        <p:spPr>
          <a:xfrm>
            <a:off x="6119640" y="4500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uter 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809440" y="2428560"/>
            <a:ext cx="13129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267080" y="2352600"/>
            <a:ext cx="145584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86120" y="3429000"/>
            <a:ext cx="123192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429000"/>
            <a:ext cx="160200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3505320"/>
            <a:ext cx="925560" cy="16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"/>
          <p:cNvSpPr/>
          <p:nvPr/>
        </p:nvSpPr>
        <p:spPr>
          <a:xfrm>
            <a:off x="1040040" y="5602320"/>
            <a:ext cx="49885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collect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ores exported flows from route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80000" y="1800360"/>
            <a:ext cx="1752840" cy="914400"/>
            <a:chOff x="5580000" y="1800360"/>
            <a:chExt cx="1752840" cy="9144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5580000" y="180036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580000" y="1800360"/>
              <a:ext cx="175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27360" bIns="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31680"/>
                  <a:tab algn="l" pos="479520"/>
                  <a:tab algn="l" pos="928800"/>
                  <a:tab algn="l" pos="1378080"/>
                  <a:tab algn="l" pos="182736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59280" y="3586320"/>
            <a:ext cx="1752840" cy="914400"/>
            <a:chOff x="5759280" y="3586320"/>
            <a:chExt cx="1752840" cy="91440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5759280" y="358632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759280" y="3586320"/>
              <a:ext cx="175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27360" bIns="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31680"/>
                  <a:tab algn="l" pos="479520"/>
                  <a:tab algn="l" pos="928800"/>
                  <a:tab algn="l" pos="1378080"/>
                  <a:tab algn="l" pos="182736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619280" y="1785960"/>
            <a:ext cx="1752480" cy="914400"/>
            <a:chOff x="1619280" y="1785960"/>
            <a:chExt cx="1752480" cy="91440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1619280" y="1785960"/>
              <a:ext cx="1752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619280" y="1785960"/>
              <a:ext cx="17524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27360" bIns="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31680"/>
                  <a:tab algn="l" pos="479520"/>
                  <a:tab algn="l" pos="928800"/>
                  <a:tab algn="l" pos="1378080"/>
                  <a:tab algn="l" pos="182736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503600" y="5046840"/>
            <a:ext cx="2362320" cy="927000"/>
            <a:chOff x="4503600" y="5046840"/>
            <a:chExt cx="2362320" cy="927000"/>
          </a:xfrm>
        </p:grpSpPr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4503600" y="5046840"/>
              <a:ext cx="236232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503600" y="5046840"/>
              <a:ext cx="23623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27360" bIns="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31680"/>
                  <a:tab algn="l" pos="479520"/>
                  <a:tab algn="l" pos="928800"/>
                  <a:tab algn="l" pos="1378080"/>
                  <a:tab algn="l" pos="182736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V="1">
            <a:off x="1981080" y="3495240"/>
            <a:ext cx="2216160" cy="16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600200" y="5029200"/>
            <a:ext cx="573120" cy="511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3809880" y="3124080"/>
            <a:ext cx="789120" cy="4590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260360" y="3419640"/>
            <a:ext cx="1752840" cy="914400"/>
            <a:chOff x="1260360" y="3419640"/>
            <a:chExt cx="1752840" cy="914400"/>
          </a:xfrm>
        </p:grpSpPr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1260360" y="3419640"/>
              <a:ext cx="1752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260360" y="3419640"/>
              <a:ext cx="1752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9240" tIns="27360" bIns="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31680"/>
                  <a:tab algn="l" pos="479520"/>
                  <a:tab algn="l" pos="928800"/>
                  <a:tab algn="l" pos="1378080"/>
                  <a:tab algn="l" pos="182736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AN </a:t>
              </a: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assive Monito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5480" y="17776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3520" bIns="50760" anchor="t">
            <a:normAutofit/>
          </a:bodyPr>
          <a:p>
            <a:pPr marL="436680" indent="-40176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rectly connected to a LAN segment via a switch port in “mirror” mode, optical splitter, or repeated segment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36680" indent="-40176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enerate flows for all local LAN traffic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36680" indent="-40176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ust have an interface or monitor deployed on each LAN segment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36680" indent="-40176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rt for more detailed flows – bidirectional and application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uter Coll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er will generate flows for traffic that is directed to the rou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s are not generated for local LAN traff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imited to “simple” flow criteria (packet header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enerally easier to deploy – no new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Vendor implement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0960" cy="88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21932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2440" bIns="50760" anchor="t">
            <a:normAutofit/>
          </a:bodyPr>
          <a:p>
            <a:pPr marL="37152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t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t is and how it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s and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ndor Configurations/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isco and Junip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tFlow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chitectural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ftware, tools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Net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2440" bIns="50760" anchor="t">
            <a:normAutofit/>
          </a:bodyPr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nidirectional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v4 unicast and multica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gregated and unaggreg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s exported via UD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rted on IOS and CatOS platfo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talyst NetFlow is different from 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NetFlow Vers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2440" bIns="50760" anchor="t">
            <a:normAutofit/>
          </a:bodyPr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 Unaggregated types (1,5,6,7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4 Aggregated types (8.x, 9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ach version has its own packet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sion 1 does not have sequence numbers – no way to detect lost flow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“version” defines what type of data is in the f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me versions specific to Catalyst plat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1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ey fields: Source/Destination IP, Source/Destination Port, IP Protocol, ToS, Input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ounting: Packets, Octets, Start/End time, Output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: Bitwise OR of TCP fla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123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ey fields: Source/Destination IP, Source/Destination Port, IP Protocol, ToS, Input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ounting: Packets, Octets, Start/End time, Output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: Bitwise OR of TCP flags, Source/Destination AS and IP Mas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cket format adds sequence numbers for detecting lost expor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gregated v5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all flow types available on all equi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uch less data to post process, but loses fine granularity of v5 – no IP addr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tocol/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tination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urce/De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ul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Protocol/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Source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Destination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Source/Destination Pre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S/Prefix/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9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6880" bIns="50760" anchor="t">
            <a:normAutofit/>
          </a:bodyPr>
          <a:p>
            <a:pPr marL="371520" indent="-336600">
              <a:lnSpc>
                <a:spcPct val="98000"/>
              </a:lnSpc>
              <a:spcAft>
                <a:spcPts val="700"/>
              </a:spcAft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cord formats are defined using templ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8000"/>
              </a:lnSpc>
              <a:spcAft>
                <a:spcPts val="700"/>
              </a:spcAft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mplate descriptions are communicated from the router to the NetFlow Collection Eng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8000"/>
              </a:lnSpc>
              <a:spcAft>
                <a:spcPts val="700"/>
              </a:spcAft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records are sent from the router to the NetFlow Collection Engine with minimal template information so that the NetFlow Collection Engine can relate the records to the appropriate templ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sion 9 is independent of the underlying transport (UDP, TCP, SCTP, and so 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Packe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mon header among export ver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 but v1 have a sequence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sion specific data field where N records of data type are expor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 is determined by the size of the flow definition.  Packet size is kept under ~1480 bytes.  No fragmentation on Eth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 Packet 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209680"/>
            <a:ext cx="266688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3770640" y="2286000"/>
            <a:ext cx="154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5 head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2767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"/>
          <p:cNvSpPr/>
          <p:nvPr/>
        </p:nvSpPr>
        <p:spPr>
          <a:xfrm>
            <a:off x="3890520" y="3352680"/>
            <a:ext cx="1391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5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1676520"/>
            <a:ext cx="2819520" cy="4724280"/>
          </a:xfrm>
          <a:custGeom>
            <a:avLst/>
            <a:gdLst>
              <a:gd name="textAreaLeft" fmla="*/ 360 w 2819520"/>
              <a:gd name="textAreaRight" fmla="*/ 2819160 w 2819520"/>
              <a:gd name="textAreaTop" fmla="*/ 360 h 4724280"/>
              <a:gd name="textAreaBottom" fmla="*/ 4723920 h 4724280"/>
            </a:gdLst>
            <a:ahLst/>
            <a:rect l="textAreaLeft" t="textAreaTop" r="textAreaRight" b="textAreaBottom"/>
            <a:pathLst>
              <a:path w="21600" h="36190">
                <a:moveTo>
                  <a:pt x="12" y="0"/>
                </a:moveTo>
                <a:arcTo wR="12" hR="12" stAng="16200000" swAng="-5400000"/>
                <a:lnTo>
                  <a:pt x="0" y="36178"/>
                </a:lnTo>
                <a:arcTo wR="12" hR="12" stAng="10800000" swAng="-5400000"/>
                <a:lnTo>
                  <a:pt x="21588" y="36190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8" name=""/>
          <p:cNvSpPr/>
          <p:nvPr/>
        </p:nvSpPr>
        <p:spPr>
          <a:xfrm>
            <a:off x="3309120" y="1752480"/>
            <a:ext cx="2415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/UDP packe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6386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0" name=""/>
          <p:cNvSpPr/>
          <p:nvPr/>
        </p:nvSpPr>
        <p:spPr>
          <a:xfrm>
            <a:off x="3890520" y="5715000"/>
            <a:ext cx="1391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5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11480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48769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"/>
          <p:cNvSpPr/>
          <p:nvPr/>
        </p:nvSpPr>
        <p:spPr>
          <a:xfrm>
            <a:off x="4352760" y="4191120"/>
            <a:ext cx="28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"/>
          <p:cNvSpPr/>
          <p:nvPr/>
        </p:nvSpPr>
        <p:spPr>
          <a:xfrm>
            <a:off x="4352760" y="4952880"/>
            <a:ext cx="28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hat are Network Flows 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ckets or frames that have a common attrib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reation and expiration policy – what conditions start and stop a f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unters – packets,bytes,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ting information – AS, network mask, interf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 Packet (Header)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"/>
          <p:cNvSpPr/>
          <p:nvPr/>
        </p:nvSpPr>
        <p:spPr>
          <a:xfrm>
            <a:off x="561600" y="2057400"/>
            <a:ext cx="814788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37080" bIns="0" anchor="t">
            <a:spAutoFit/>
          </a:bodyPr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pdu_v5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4 byte header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version;       /* 5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count;         /* The number of records in the PDU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sysUpTime;     /* Current time in millisecs since router boote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secs;     /* Current 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nsecs;    /* Residual nano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low_sequence; /* Seq counter of total flows see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type;   /* Type of flow switching engine (RP,VIP,etc.)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id;     /* Slot number of the flow switching engine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reserved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5 Packet (Records)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660680"/>
            <a:ext cx="784872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37080" bIns="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48 byte payloa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rec_v5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srcaddr;    /* Source IP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staddr;    /* Destination IP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nexthop;    /* Next hop router's IP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input;      /* In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output;     /* Out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Pkts;      /* Packets sent in Duratio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Octets;    /* Octets sent in Duration.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irst;      /* SysUptime at star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Last;       /* and of last packe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srcport;    /* TCP/UDP source port number or equivalent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stport;    /* TCP/UDP destination port number or equiv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pad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tcp_flags;  /* Cumulative OR of tcp flag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prot;       /* IP protocol, e.g., 6=TCP, 17=UDP, ...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tos;        /* IP Type-of-Service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src_as;     /* originating AS of source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st_as;     /* originating AS of destination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src_mask;   /* source address prefix mask bit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dst_mask;   /* destination address prefix mask bit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rops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records[FT_PDU_V5_MAXFLOWS]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 Packet Exampl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(AS Aggregation)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2514600"/>
            <a:ext cx="266688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1" name=""/>
          <p:cNvSpPr/>
          <p:nvPr/>
        </p:nvSpPr>
        <p:spPr>
          <a:xfrm>
            <a:off x="3692880" y="2590920"/>
            <a:ext cx="154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8 head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5812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3" name=""/>
          <p:cNvSpPr/>
          <p:nvPr/>
        </p:nvSpPr>
        <p:spPr>
          <a:xfrm>
            <a:off x="3814200" y="3657600"/>
            <a:ext cx="1391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8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1981080"/>
            <a:ext cx="2819520" cy="4724640"/>
          </a:xfrm>
          <a:custGeom>
            <a:avLst/>
            <a:gdLst>
              <a:gd name="textAreaLeft" fmla="*/ 360 w 2819520"/>
              <a:gd name="textAreaRight" fmla="*/ 2819160 w 2819520"/>
              <a:gd name="textAreaTop" fmla="*/ 360 h 4724640"/>
              <a:gd name="textAreaBottom" fmla="*/ 4724280 h 4724640"/>
            </a:gdLst>
            <a:ahLst/>
            <a:rect l="textAreaLeft" t="textAreaTop" r="textAreaRight" b="textAreaBottom"/>
            <a:pathLst>
              <a:path w="21600" h="36193">
                <a:moveTo>
                  <a:pt x="12" y="0"/>
                </a:moveTo>
                <a:arcTo wR="12" hR="12" stAng="16200000" swAng="-5400000"/>
                <a:lnTo>
                  <a:pt x="0" y="36181"/>
                </a:lnTo>
                <a:arcTo wR="12" hR="12" stAng="10800000" swAng="-5400000"/>
                <a:lnTo>
                  <a:pt x="21588" y="36193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5" name=""/>
          <p:cNvSpPr/>
          <p:nvPr/>
        </p:nvSpPr>
        <p:spPr>
          <a:xfrm>
            <a:off x="3232800" y="2057400"/>
            <a:ext cx="2415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P/UDP packe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594360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7" name=""/>
          <p:cNvSpPr/>
          <p:nvPr/>
        </p:nvSpPr>
        <p:spPr>
          <a:xfrm>
            <a:off x="3814200" y="6019920"/>
            <a:ext cx="1391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8 reco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4419720"/>
            <a:ext cx="2666880" cy="53316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5181480"/>
            <a:ext cx="2666880" cy="53352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0" name=""/>
          <p:cNvSpPr/>
          <p:nvPr/>
        </p:nvSpPr>
        <p:spPr>
          <a:xfrm>
            <a:off x="4275000" y="4495680"/>
            <a:ext cx="28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1" name=""/>
          <p:cNvSpPr/>
          <p:nvPr/>
        </p:nvSpPr>
        <p:spPr>
          <a:xfrm>
            <a:off x="4275000" y="5257800"/>
            <a:ext cx="28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Flow v8 AS agg. Pack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3" name=""/>
          <p:cNvSpPr/>
          <p:nvPr/>
        </p:nvSpPr>
        <p:spPr>
          <a:xfrm>
            <a:off x="485280" y="1235160"/>
            <a:ext cx="814788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37080" bIns="0" anchor="t">
            <a:spAutoFit/>
          </a:bodyPr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pdu_v8_1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8 byte header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version;       /* 8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count;         /* The number of records in the PDU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sysUpTime;     /* Current time in millisecs since router boote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secs;     /* Current 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unix_nsecs;    /* Residual nanoseconds since 0000 UTC 1970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low_sequence; /* Seq counter of total flows see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type;   /* Type of flow switching engine (RP,VIP,etc.)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engine_id;     /* Slot number of the flow switching engine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aggregation;   /* Aggregation method being use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8  agg_version;   /* Version of the aggregation export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reserved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8 byte payload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trec_v8_1 {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Flows;     /* Number of flow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Pkts;      /* Packets sent in duratio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dOctets;    /* Octets sent in duration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First;      /* SysUpTime at star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32 Last;       /* and of last packet of flow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src_as;     /* originating AS of source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dst_as;     /* originating AS of destination address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input;      /* in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_int16 output;     /* output interface index */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records[FT_PDU_V8_1_MAXFLOWS]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2440" bIns="50760" anchor="t">
            <a:normAutofit/>
          </a:bodyPr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figured on each input interf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fine the ver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fine the IP address of the collector (where to send the flow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ly enable aggregation 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ly configure flow timeout and main (v5) flow table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040" indent="-41112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ptionally configure sample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7" name=""/>
          <p:cNvSpPr/>
          <p:nvPr/>
        </p:nvSpPr>
        <p:spPr>
          <a:xfrm>
            <a:off x="2260800" y="1668600"/>
            <a:ext cx="48013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44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Access to backbone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ddress 169.223.132.10 255.255.255.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egres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ingres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uplex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0/1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Access to local net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address 169.223.142.1 255.255.255.22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uplex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aut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version 5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destination 169.223.142.3 2002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top-talker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p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-by by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360" y="1584360"/>
            <a:ext cx="7772400" cy="50990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104400" bIns="50760" anchor="t">
            <a:normAutofit/>
          </a:bodyPr>
          <a:p>
            <a:pPr marL="739800" indent="-704880">
              <a:lnSpc>
                <a:spcPct val="83000"/>
              </a:lnSpc>
              <a:buClr>
                <a:srgbClr val="000000"/>
              </a:buClr>
              <a:buFont typeface="Tahoma"/>
              <a:buChar char="•"/>
              <a:tabLst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IOS vers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83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FastEthernet0/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-cache flow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Osak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 Prior to IOS 12.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94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[ingress|egress]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Osak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 From IOS 12.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9800" indent="0">
              <a:lnSpc>
                <a:spcPct val="83000"/>
              </a:lnSpc>
              <a:buNone/>
              <a:tabLst>
                <a:tab algn="l" pos="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1" name=""/>
          <p:cNvSpPr/>
          <p:nvPr/>
        </p:nvSpPr>
        <p:spPr>
          <a:xfrm>
            <a:off x="332640" y="1676520"/>
            <a:ext cx="820836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232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 export v5 is enabled for main cach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ing flows to 169.223.142.3 (2002)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ing using source IP address 169.223.142.1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5 flow record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7480 flows exported in 6953 udp datagram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flows failed due to lack of export packe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sent up to process level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no fib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adjacency issu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fragmentation failur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export packets were dropped due to encapsulation fixup failur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9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66068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b-gw#sh ip cache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packet size distribution (1765988 total packets):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-32   64   96  128  160  192  224  256  288  320  352  384  416  448  48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000 .538 .113 .049 .027 .006 .002 .006 .002 .001 .001 .001 .017 .002 .001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2  544  576 1024 1536 2048 2560 3072 3584 4096 46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001 .001 .002 .018 .204 .000 .000 .000 .000 .000 .00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Switching Cache, 278544 by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5 active, 3991 inactive, 127794 added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151823 ager polls, 0 flow alloc failur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e flows timeout in 30 minu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active flows timeout in 15 second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Sub Flow Cache, 21640 by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5 active, 919 inactive, 127726 added, 127726 added to 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alloc failures, 0 force free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chunk, 8 chunks added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clearing of statistics neve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ocol         Total    Flows   Packets Bytes  Packets Active(Sec) Idle(Sec)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         Flows     /Sec     /Flow  /Pkt     /Sec     /Flow     /Flow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Telnet          62      0.0        60    50      0.0      15.7      14.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FTP              1      0.0         3    60      0.0       8.9      15.2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WWW          54359      0.1        14   658      2.3       5.3       5.1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SMTP            20      0.0       103    47      0.0       6.3      13.5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5" name=""/>
          <p:cNvSpPr/>
          <p:nvPr/>
        </p:nvSpPr>
        <p:spPr>
          <a:xfrm>
            <a:off x="350640" y="1168560"/>
            <a:ext cx="842832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44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X             1991      0.0        32    40      0.1       0.5      14.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CP-other         8069      0.0        61   214      1.5       7.8       8.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DNS          24371      0.0         1    69      0.0       0.1      15.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NTP           7208      0.0         1    74      0.0       0.0      15.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Frag            14      0.0         1   508      0.0       1.2      15.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DP-other        27261      0.0        11   105      0.9       0.4      15.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CMP              4457      0.0        17    83      0.2      16.9      15.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-other             1      0.0         1    50      0.0       0.0      15.6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:          128017      0.3        13   373      5.3       3.5      10.6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rcIf         SrcIPaddress    DstIf         DstIPaddress    Pr SrcP DstP  Pkt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210.118.80.41   Fa0/1         169.223.142.112 11 0627 059A     1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3   Fa0/0*        169.223.35.48   06 0050 C166     1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35.175  Local         169.223.142.1   06 EFFD 0016   145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35.175  Local         169.223.142.1   06 EFFC 0017     1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35.175  Fa0/1         169.223.142.3   06 EE61 0016    79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102 Fa0/0*        216.34.181.71   06 E058 0050     6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70  Fa0/0*        66.220.146.18   06 CBD3 0050     6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208.81.191.110  Fa0/1         169.223.142.70  06 0050 DABD    13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Network Flows..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nidirectional or bidirect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idirectional flows can contain other information such as round trip time, TCP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lication flows look past the headers to classify packets by their cont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gregated flows – flows of fl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3794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IOS Configur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000" y="1345680"/>
            <a:ext cx="8597880" cy="5133960"/>
          </a:xfrm>
          <a:prstGeom prst="rect">
            <a:avLst/>
          </a:prstGeom>
          <a:noFill/>
          <a:ln w="0">
            <a:noFill/>
          </a:ln>
        </p:spPr>
        <p:txBody>
          <a:bodyPr lIns="50760" rIns="0" tIns="61200" bIns="50760" anchor="t">
            <a:normAutofit/>
          </a:bodyPr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top-talk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p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-by by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b-gw#show ip flow top-talker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rcIf         SrcIPaddress    DstIf         DstIPaddress    Pr SrcP DstP By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39  Fa0/0*        169.223.35.139  06 0050 D804    33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32.102  Fa0/1         169.223.142.37  06 816E 0016    28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39  Fa0/0*        169.223.35.139  06 0050 D805    26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39  Fa0/0*        169.223.35.139  06 0050 D807    24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39  Fa0/0*        169.223.35.139  06 0050 D806    23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37  Fa0/0*        169.223.32.102  06 0016 816E    23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35.139  Fa0/1         169.223.142.39  06 D804 0050  6675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70  Fa0/0*        208.81.191.110  06 ABE7 0050  4341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0         169.223.35.175  Fa0/1         169.223.142.3   06 EE61 0016  314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0/1         169.223.142.3   Fa0/0*        169.223.35.175  06 0016 EE61  252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of 10 top talkers shown. 122 flows processe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4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command summar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37152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able flow on each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1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route-cache f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1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1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1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1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ing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1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 eg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1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iew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3440" indent="-2113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 ip cache f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3440" indent="-2113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 ip flow top-tal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37944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Cisco Command Summar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0" tIns="119160" bIns="50760" anchor="t">
            <a:normAutofit/>
          </a:bodyPr>
          <a:p>
            <a:pPr marL="733320" indent="-698400">
              <a:lnSpc>
                <a:spcPct val="83000"/>
              </a:lnSpc>
              <a:buClr>
                <a:srgbClr val="000000"/>
              </a:buClr>
              <a:buFont typeface="Tahoma"/>
              <a:buChar char="•"/>
              <a:tabLst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xport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83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94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version 5 [origin-as|peer-a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94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export destination x.x.x.x &lt;udp-por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83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83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3320" indent="-698400">
              <a:lnSpc>
                <a:spcPct val="83000"/>
              </a:lnSpc>
              <a:buClr>
                <a:srgbClr val="000000"/>
              </a:buClr>
              <a:buFont typeface="Tahoma"/>
              <a:buChar char="•"/>
              <a:tabLst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xporting aggregated flow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83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94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p flow-aggregation cache as|prefix|dest|source|pro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94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nabl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733320" indent="0">
              <a:lnSpc>
                <a:spcPct val="94000"/>
              </a:lnSpc>
              <a:buNone/>
              <a:tabLst>
                <a:tab algn="l" pos="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 destination x.x.x.x &lt;udp-port&gt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s and Applic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ses for 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2440" bIns="50760" anchor="t">
            <a:normAutofit fontScale="99000"/>
          </a:bodyPr>
          <a:p>
            <a:pPr marL="367560" indent="-3330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 identification / s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ffic classif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S Traceback (some slides by Danny McPherson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560" indent="-3330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-AS traff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porting on application prox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7560" indent="-3330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oss verification from other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cross-check with SNMP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ffic Classification</a:t>
            </a:r>
            <a:r>
              <a:rPr b="0" lang="en-GB" sz="4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ased on Protocol, source and destination 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tocol identification (TCP, UDP, ICM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define well known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identify well known P2P 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st common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7324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xy measurement - http , f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7324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te limiting P2P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ceback: Flow-based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040960" cy="42703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ce attack by matching fingerprint/signature at each interface via passive monito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ow data (e.g., NetFlow, cflowd, sFlow, IPFIX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SAMP (Packet Sampling, IETF PSAMP WG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mber of open source and commercial products evolving in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1520" indent="-336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n-intrusive, widely sup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based Detection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2440" bIns="50760" anchor="t">
            <a:normAutofit fontScale="99000"/>
          </a:bodyPr>
          <a:p>
            <a:pPr marL="367560" indent="-3330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itor flows (i.e., Network and Transport Layer transactions) on the network and build baselines for what normal behavior looks lik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 pref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 Transport Layer protocol &amp;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2764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uild time-based buckets (e.g., 5 minutes, 30 minutes, 1 hours, 12 hours, day of week, day of month, day of year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872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008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Grande"/>
              </a:rPr>
              <a:t>Detect Anomalous Events: SQL “Slammer” Worm*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19080" y="2340000"/>
            <a:ext cx="6319800" cy="4259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00400" y="1619280"/>
            <a:ext cx="5943600" cy="2278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545000" y="4319640"/>
            <a:ext cx="4275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based Detection (cont)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78120" bIns="50760" anchor="t">
            <a:normAutofit/>
          </a:bodyPr>
          <a:p>
            <a:pPr marL="372960" indent="-33804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ce baselines are built anomalous activity can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3280" indent="-2811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ur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ate-base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pps or bps) anomalies may be legitimate or malic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3280" indent="-2811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ny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su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ttacks can be immediately recognized, even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ithou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aselines (e.g., TCP SYN or RST floods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3280" indent="-2811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ignatur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can also be defined to identify “interesting” transactional data (e.g., proto udp and port 1434 and 404 octets(376 payload) == slammer!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3280" indent="-2811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mporal compound signatures can be defined to detect with higher prec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nidirectional Flow with Source/Destination IP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19200" y="266688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/>
          <p:nvPr/>
        </p:nvSpPr>
        <p:spPr>
          <a:xfrm>
            <a:off x="947880" y="3164040"/>
            <a:ext cx="1155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/>
          <p:nvPr/>
        </p:nvSpPr>
        <p:spPr>
          <a:xfrm>
            <a:off x="6831000" y="3200400"/>
            <a:ext cx="1155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"/>
          <p:cNvSpPr/>
          <p:nvPr/>
        </p:nvSpPr>
        <p:spPr>
          <a:xfrm>
            <a:off x="2973240" y="2097000"/>
            <a:ext cx="239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808000" y="3581280"/>
            <a:ext cx="3220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"/>
          <p:cNvSpPr/>
          <p:nvPr/>
        </p:nvSpPr>
        <p:spPr>
          <a:xfrm>
            <a:off x="3196800" y="3048120"/>
            <a:ext cx="841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/>
          <p:nvPr/>
        </p:nvSpPr>
        <p:spPr>
          <a:xfrm>
            <a:off x="3241440" y="4191120"/>
            <a:ext cx="24739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36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876920"/>
            <a:ext cx="6172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2680" bIns="0" anchor="t">
            <a:noAutofit/>
          </a:bodyPr>
          <a:p>
            <a:pPr>
              <a:lnSpc>
                <a:spcPct val="91000"/>
              </a:lnSpc>
              <a:spcBef>
                <a:spcPts val="1250"/>
              </a:spcBef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3341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/>
          <p:nvPr/>
        </p:nvSpPr>
        <p:spPr>
          <a:xfrm>
            <a:off x="687600" y="5510160"/>
            <a:ext cx="3930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low-based Commercial Tools…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2217" t="21477" r="3212" b="0"/>
          <a:stretch/>
        </p:blipFill>
        <p:spPr>
          <a:xfrm>
            <a:off x="685800" y="1600200"/>
            <a:ext cx="723888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219320" y="1415880"/>
            <a:ext cx="6933960" cy="5061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3636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mmercial Detec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 Large Scale DOS attack*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ceback: Commercial*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40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95280" y="1316160"/>
            <a:ext cx="6578640" cy="4771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086600" y="1905120"/>
            <a:ext cx="609480" cy="152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743200"/>
            <a:ext cx="76176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1211400"/>
            <a:ext cx="7221240" cy="5229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1800" y="-360"/>
            <a:ext cx="7119720" cy="1514520"/>
          </a:xfrm>
          <a:prstGeom prst="rect">
            <a:avLst/>
          </a:prstGeom>
          <a:noFill/>
          <a:ln w="0">
            <a:noFill/>
          </a:ln>
        </p:spPr>
        <p:txBody>
          <a:bodyPr lIns="0" rIns="78480" tIns="3636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mmercial Traceback: More Detail*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Traffic Analysi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 fontScale="97000"/>
          </a:bodyPr>
          <a:p>
            <a:pPr marL="360360" indent="-32616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 see traffic based on source and destination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 and destination AS derived through the routing table on th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es the need to run full mesh BGP at IXPs as well as transit and p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7072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 and destination prefix based flows can be collected and plotted against external prefix to AS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ount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low based accounting can be a good supplement to SNMP based accoun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NMP and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859360" cy="1581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5867280" cy="1582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5859360" cy="1581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90720" y="5943600"/>
            <a:ext cx="617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2880" bIns="0" anchor="t">
            <a:no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ta Courtesy  AARNET, Australia and Bruce Morga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96048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ee the fine lines.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100560" cy="1646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6095880" cy="16444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990720" y="5943600"/>
            <a:ext cx="617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2880" bIns="0" anchor="t">
            <a:no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ta Courtesy  AARNET, Australia and Bruce Morga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1447920" y="2514600"/>
            <a:ext cx="609588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0382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NMP and Flo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095880" cy="1644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43000" y="2597040"/>
            <a:ext cx="6095880" cy="1644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1143000" y="4254480"/>
            <a:ext cx="6095880" cy="1644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990720" y="5943600"/>
            <a:ext cx="617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2880" bIns="0" anchor="t">
            <a:no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334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ta Courtesy  AARNET, Australia and Bruce Morgan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0960" cy="16016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hat Nex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8459640" cy="417996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50760" bIns="50760" anchor="t">
            <a:normAutofit/>
          </a:bodyPr>
          <a:p>
            <a:pPr marL="371520" indent="-336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PFIX (IP Flow Information Exchange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make the flow format uniform and make it easier to write analysis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101000"/>
              </a:lnSpc>
              <a:spcBef>
                <a:spcPts val="700"/>
              </a:spcBef>
              <a:buClr>
                <a:srgbClr val="009999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1.ietf.org/html.charters/ipfix-charter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3000"/>
              </a:lnSpc>
              <a:spcBef>
                <a:spcPts val="700"/>
              </a:spcBef>
              <a:buClr>
                <a:srgbClr val="009999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Requirements for IP Flow Information Export (RFC 3917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2793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aluation of Candidate Protocols for IP Flow Information Export (IPFIX) (RFC 3955)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nidirectional Flow with Source/Destination IP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52520" y="287964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"/>
          <p:cNvSpPr/>
          <p:nvPr/>
        </p:nvSpPr>
        <p:spPr>
          <a:xfrm>
            <a:off x="947880" y="3164040"/>
            <a:ext cx="1155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/>
          <p:nvPr/>
        </p:nvSpPr>
        <p:spPr>
          <a:xfrm>
            <a:off x="6831000" y="3200400"/>
            <a:ext cx="1155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"/>
          <p:cNvSpPr/>
          <p:nvPr/>
        </p:nvSpPr>
        <p:spPr>
          <a:xfrm>
            <a:off x="2719080" y="1905120"/>
            <a:ext cx="239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808000" y="3886200"/>
            <a:ext cx="3220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971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736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/>
          <p:nvPr/>
        </p:nvSpPr>
        <p:spPr>
          <a:xfrm>
            <a:off x="3241440" y="4191120"/>
            <a:ext cx="24739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36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876920"/>
            <a:ext cx="8534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2680" bIns="0" anchor="t">
            <a:noAutofit/>
          </a:bodyPr>
          <a:p>
            <a:pPr>
              <a:lnSpc>
                <a:spcPct val="91000"/>
              </a:lnSpc>
              <a:spcBef>
                <a:spcPts val="1250"/>
              </a:spcBef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3341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/>
          <p:nvPr/>
        </p:nvSpPr>
        <p:spPr>
          <a:xfrm>
            <a:off x="687600" y="5510160"/>
            <a:ext cx="3930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"/>
          <p:cNvSpPr/>
          <p:nvPr/>
        </p:nvSpPr>
        <p:spPr>
          <a:xfrm>
            <a:off x="2720160" y="2362320"/>
            <a:ext cx="221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ping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429000"/>
            <a:ext cx="27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736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CMP echo rep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-tools: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www.splintered.net/sw/flow-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148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 Applications </a:t>
            </a:r>
            <a:r>
              <a:rPr b="0" lang="en-GB" sz="2400" spc="-1" strike="noStrike">
                <a:solidFill>
                  <a:srgbClr val="000080"/>
                </a:solidFill>
                <a:latin typeface="Lucida Grande"/>
                <a:ea typeface="Lucida Grande"/>
              </a:rPr>
              <a:t>http://www.inmon.com/technology/netflowapps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tflow HOW-TO</a:t>
            </a:r>
            <a:br>
              <a:rPr sz="3200"/>
            </a:b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www.linuxgeek.org/netflow-howto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ETF standards effort:</a:t>
            </a:r>
            <a:br>
              <a:rPr sz="3200"/>
            </a:br>
            <a:r>
              <a:rPr b="0" lang="en-GB" sz="2400" spc="-1" strike="noStrike">
                <a:solidFill>
                  <a:srgbClr val="000080"/>
                </a:solidFill>
                <a:latin typeface="Lucida Grande"/>
                <a:ea typeface="Lucida Grande"/>
              </a:rPr>
              <a:t>http://www.ietf.org/html.charters/ipfix-charter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0000" y="1980720"/>
            <a:ext cx="8459640" cy="52117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bilene NetFlow page</a:t>
            </a:r>
            <a:br>
              <a:rPr sz="3200"/>
            </a:b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abilene-netflow.itec.oar.net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-tools mailing list:                     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flow-tools@splintered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isco Centric Open Source Community </a:t>
            </a:r>
            <a:r>
              <a:rPr b="0" lang="en-GB" sz="2400" spc="-1" strike="noStrike">
                <a:solidFill>
                  <a:srgbClr val="0d009e"/>
                </a:solidFill>
                <a:latin typeface="Lucida Grande"/>
                <a:ea typeface="Lucida Grande"/>
              </a:rPr>
              <a:t>http://cosi-nms.sourceforge.net/related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000" y="1980720"/>
            <a:ext cx="8459640" cy="5211720"/>
          </a:xfrm>
          <a:prstGeom prst="rect">
            <a:avLst/>
          </a:prstGeom>
          <a:noFill/>
          <a:ln w="0">
            <a:noFill/>
          </a:ln>
        </p:spPr>
        <p:txBody>
          <a:bodyPr lIns="50760" rIns="230760" tIns="87120" bIns="50760" anchor="t">
            <a:normAutofit/>
          </a:bodyPr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ensight.eos.nasa.gov/FlowViewer/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nfsen.sourceforge.net/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222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netflowdashboard.com/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9880"/>
            <a:ext cx="7772400" cy="195084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Unidirectional Flow with IP, Port,Protocol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20829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20829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4560" y="2540160"/>
            <a:ext cx="3506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/>
          <p:nvPr/>
        </p:nvSpPr>
        <p:spPr>
          <a:xfrm>
            <a:off x="931680" y="2808360"/>
            <a:ext cx="87804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052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/>
          <p:nvPr/>
        </p:nvSpPr>
        <p:spPr>
          <a:xfrm>
            <a:off x="6815160" y="2844720"/>
            <a:ext cx="87804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052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08000" y="3530520"/>
            <a:ext cx="3220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"/>
          <p:cNvSpPr/>
          <p:nvPr/>
        </p:nvSpPr>
        <p:spPr>
          <a:xfrm>
            <a:off x="3121560" y="2616120"/>
            <a:ext cx="64044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052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"/>
          <p:cNvSpPr/>
          <p:nvPr/>
        </p:nvSpPr>
        <p:spPr>
          <a:xfrm>
            <a:off x="3216960" y="3835440"/>
            <a:ext cx="140832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052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759120"/>
            <a:ext cx="9144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89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0520" bIns="0" anchor="t">
            <a:noAutofit/>
          </a:bodyPr>
          <a:p>
            <a:pPr>
              <a:lnSpc>
                <a:spcPct val="91000"/>
              </a:lnSpc>
              <a:spcBef>
                <a:spcPts val="1250"/>
              </a:spcBef>
              <a:tabLst>
                <a:tab algn="l" pos="0"/>
                <a:tab algn="l" pos="316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t     srcPor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stPor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82616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950000"/>
            <a:ext cx="8381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052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          TCP  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2000  23             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          TCP  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3        3200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         ICMP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0           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         ICMP  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0           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"/>
          <p:cNvSpPr/>
          <p:nvPr/>
        </p:nvSpPr>
        <p:spPr>
          <a:xfrm>
            <a:off x="3045240" y="1828800"/>
            <a:ext cx="18122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052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ping 10.0.0.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73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052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CMP echo repl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Bidirectional Flow with IP, Port,Protocol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84560" y="289548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/>
          <p:nvPr/>
        </p:nvSpPr>
        <p:spPr>
          <a:xfrm>
            <a:off x="947880" y="3164040"/>
            <a:ext cx="1155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"/>
          <p:cNvSpPr/>
          <p:nvPr/>
        </p:nvSpPr>
        <p:spPr>
          <a:xfrm>
            <a:off x="6831000" y="3200400"/>
            <a:ext cx="1155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"/>
          <p:cNvSpPr/>
          <p:nvPr/>
        </p:nvSpPr>
        <p:spPr>
          <a:xfrm>
            <a:off x="2719080" y="1905120"/>
            <a:ext cx="239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telnet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95320" y="3959280"/>
            <a:ext cx="2889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"/>
          <p:cNvSpPr/>
          <p:nvPr/>
        </p:nvSpPr>
        <p:spPr>
          <a:xfrm>
            <a:off x="3119040" y="2971800"/>
            <a:ext cx="841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"/>
          <p:cNvSpPr/>
          <p:nvPr/>
        </p:nvSpPr>
        <p:spPr>
          <a:xfrm>
            <a:off x="3241440" y="4191120"/>
            <a:ext cx="24739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36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724280"/>
            <a:ext cx="9360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2680" bIns="0" anchor="t">
            <a:noAutofit/>
          </a:bodyPr>
          <a:p>
            <a:pPr>
              <a:lnSpc>
                <a:spcPct val="91000"/>
              </a:lnSpc>
              <a:spcBef>
                <a:spcPts val="1250"/>
              </a:spcBef>
              <a:tabLst>
                <a:tab algn="l" pos="0"/>
                <a:tab algn="l" pos="316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       prot     srcPort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stPor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1814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305320"/>
            <a:ext cx="8381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736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         TCP    32000  23        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ICMP  0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"/>
          <p:cNvSpPr/>
          <p:nvPr/>
        </p:nvSpPr>
        <p:spPr>
          <a:xfrm>
            <a:off x="2720160" y="2362320"/>
            <a:ext cx="221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ping 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429000"/>
            <a:ext cx="285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736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CMP echo rep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78480" tIns="5004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plication Flow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4560" y="2666880"/>
            <a:ext cx="350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"/>
          <p:cNvSpPr/>
          <p:nvPr/>
        </p:nvSpPr>
        <p:spPr>
          <a:xfrm>
            <a:off x="947880" y="2935440"/>
            <a:ext cx="1155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"/>
          <p:cNvSpPr/>
          <p:nvPr/>
        </p:nvSpPr>
        <p:spPr>
          <a:xfrm>
            <a:off x="6831000" y="2971800"/>
            <a:ext cx="1155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"/>
          <p:cNvSpPr/>
          <p:nvPr/>
        </p:nvSpPr>
        <p:spPr>
          <a:xfrm>
            <a:off x="2655360" y="1981080"/>
            <a:ext cx="4180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% firefox http://10.0.0.2:909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08000" y="3657600"/>
            <a:ext cx="3220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"/>
          <p:cNvSpPr/>
          <p:nvPr/>
        </p:nvSpPr>
        <p:spPr>
          <a:xfrm>
            <a:off x="3178080" y="3124080"/>
            <a:ext cx="207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27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tent-typ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"/>
          <p:cNvSpPr/>
          <p:nvPr/>
        </p:nvSpPr>
        <p:spPr>
          <a:xfrm>
            <a:off x="3241440" y="3809880"/>
            <a:ext cx="24739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36360" bIns="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ive Flo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974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778280"/>
            <a:ext cx="853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2680" bIns="0" anchor="t">
            <a:noAutofit/>
          </a:bodyPr>
          <a:p>
            <a:pPr>
              <a:lnSpc>
                <a:spcPct val="91000"/>
              </a:lnSpc>
              <a:spcBef>
                <a:spcPts val="1250"/>
              </a:spcBef>
              <a:tabLst>
                <a:tab algn="l" pos="0"/>
                <a:tab algn="l" pos="316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ow   Source IP               Destination IP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2354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3593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2736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88880"/>
                <a:tab algn="l" pos="946080"/>
                <a:tab algn="l" pos="1860480"/>
                <a:tab algn="l" pos="2774880"/>
                <a:tab algn="l" pos="3689280"/>
                <a:tab algn="l" pos="4603680"/>
                <a:tab algn="l" pos="5518080"/>
                <a:tab algn="l" pos="6432480"/>
                <a:tab algn="l" pos="7346880"/>
                <a:tab algn="l" pos="8261280"/>
                <a:tab algn="l" pos="9175680"/>
                <a:tab algn="l" pos="10090080"/>
                <a:tab algn="l" pos="10321920"/>
                <a:tab algn="l" pos="10775880"/>
                <a:tab algn="l" pos="107776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1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.0.0.2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  HTTP           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"/>
          <p:cNvSpPr/>
          <p:nvPr/>
        </p:nvSpPr>
        <p:spPr>
          <a:xfrm>
            <a:off x="7408800" y="1549440"/>
            <a:ext cx="1663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1800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b server 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91000"/>
              </a:lnSpc>
              <a:tabLst>
                <a:tab algn="l" pos="0"/>
                <a:tab algn="l" pos="31680"/>
                <a:tab algn="l" pos="479520"/>
                <a:tab algn="l" pos="928800"/>
                <a:tab algn="l" pos="1378080"/>
                <a:tab algn="l" pos="182736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rt 9090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04:56:03Z</dcterms:created>
  <dc:creator/>
  <dc:description/>
  <dc:language>en-US</dc:language>
  <cp:lastModifiedBy>Phil Regnauld</cp:lastModifiedBy>
  <cp:lastPrinted>2010-02-26T06:43:22Z</cp:lastPrinted>
  <dcterms:modified xsi:type="dcterms:W3CDTF">2010-02-26T06:54:20Z</dcterms:modified>
  <cp:revision>6</cp:revision>
  <dc:subject/>
  <dc:title>PowerPoint Presentation</dc:title>
</cp:coreProperties>
</file>